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65A2-F0E2-49D1-8A30-5AFAD22D572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35B9-150D-4486-965C-442D96FAFBA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04A1-117A-4738-B111-07F69950901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8101-C37A-4CCE-A118-E96808475B8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7027-3ED5-42BB-A8F2-3A32A2519B8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868320" y="75708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9E70-C3C7-4DFE-86F5-9EBC79002C8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GAS NATURAL EN NUESTRA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4029F-D3B7-4E10-88A2-5119ECD7A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FBA7-EE3D-40A6-8568-7D5C20E24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5626D-5080-435E-95CC-1C53F910A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8B3D8-1EFD-40AC-A456-B50A4A8D6A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EDE3-D067-4591-8635-B4DD2D06E5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09E9-5101-4237-B58E-84745DA435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F98F8-75EA-4130-B7FC-978042B551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69C52-73B7-4463-A547-16CD592DD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7ADF2-14F7-4FD3-B1FF-ACAF84BCE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F68D-7851-4DC2-A65F-283552CD4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90BA-C248-49F2-97CA-5D909A8B4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B005-0EDD-4287-B9B2-6A4E9843A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315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FB03-01D6-4008-9893-657245DA9DC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8469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PERU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El Proyecto de Exportación de Gas Natur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58920" y="501300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ctubre 26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1742-910C-415B-9E5C-37D1013249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800600" y="2781360"/>
            <a:ext cx="1523880" cy="353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00800" y="32130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yecto de Expor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4200" y="5486400"/>
            <a:ext cx="280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manda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0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Añ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4581360"/>
            <a:ext cx="1523880" cy="1743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1268280"/>
            <a:ext cx="1676520" cy="501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104840"/>
            <a:ext cx="6915240" cy="5248440"/>
          </a:xfrm>
          <a:custGeom>
            <a:avLst/>
            <a:gdLst/>
            <a:ahLst/>
            <a:rect l="l" t="t" r="r" b="b"/>
            <a:pathLst>
              <a:path w="4374" h="2490">
                <a:moveTo>
                  <a:pt x="0" y="0"/>
                </a:moveTo>
                <a:lnTo>
                  <a:pt x="0" y="2490"/>
                </a:lnTo>
                <a:lnTo>
                  <a:pt x="4374" y="2490"/>
                </a:ln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379080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5486400"/>
            <a:ext cx="6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81480" y="350028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3638520"/>
            <a:ext cx="14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t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88 y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5228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eservas Conocidas y Demanda (TP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65400">
            <a:off x="212040" y="29383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1052640"/>
            <a:ext cx="5112000" cy="151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l Consorcio Camisea tiene como prioridad desarrollar el mercado del gas natural en el Per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86A01-BD48-46F7-9C42-3C9DEB723B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0" y="950760"/>
          <a:ext cx="914400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50760"/>
                    <a:ext cx="914400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829880" y="90360"/>
            <a:ext cx="45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ctos – Rutas Altern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CAB3-4406-478C-A25A-B408E52A21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27416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construirá un gaseoducto nuevo desde el final del segmento de la selva hasta la planta de L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viene negociando con TGP para el uso del segmento de selva del gaseoducto existen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l gaseoducto sólo necesitaría expandirse en la sierra y la cost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xpansión del Gaseodu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066680" y="3218040"/>
            <a:ext cx="6934320" cy="31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0585E-79A0-4A90-999D-71E45BD272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5638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cepción del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2096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mp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524880" cy="7620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495680" y="22096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10280" y="16765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stalaciones Ma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01000" y="3306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ntorc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19920" y="4343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Refriger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48769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enerac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38862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rvicio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200400"/>
            <a:ext cx="24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tiro de Gas Acido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29718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Deshidratación del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280" y="5868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 de Exportación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lant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mpa Melcho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38480" y="380988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frigeración y Licuefa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05120" y="277344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dsorbedor de Carbón act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5638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pacidad de la planta: 625 mmp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BE02B-9625-459F-B816-3EE2192D56B6}" type="slidenum">
              <a:t>13</a:t>
            </a:fld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5600" y="22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Planta de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mpa Melchorita: 169 km. al sur de L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ceso seleccionado APCI C3-MC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pacidad de la planta: 4+ MMTPA (625 MM pc/d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~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8 MM m3/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friamiento con ai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mpresores GE “Frame 7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s tanques de almacenamiento: 130,000 m3 c/u (doble pared, simple contened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elle de 1.3 km. y un rompeolas de 800 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tosuficiente en servicios (agua y lu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47640" y="6021360"/>
            <a:ext cx="698364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A la fecha se ha invertido más de 30 MMUS$ en el proyec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1E2D-657F-40BA-8E44-1217E4FF4C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3995640" y="2622600"/>
            <a:ext cx="2212920" cy="1299600"/>
            <a:chOff x="3995640" y="2622600"/>
            <a:chExt cx="2212920" cy="1299600"/>
          </a:xfrm>
        </p:grpSpPr>
        <p:sp>
          <p:nvSpPr>
            <p:cNvPr id="364" name=""/>
            <p:cNvSpPr/>
            <p:nvPr/>
          </p:nvSpPr>
          <p:spPr>
            <a:xfrm>
              <a:off x="4444920" y="3163680"/>
              <a:ext cx="1309680" cy="259920"/>
            </a:xfrm>
            <a:custGeom>
              <a:avLst/>
              <a:gdLst/>
              <a:ahLst/>
              <a:rect l="l" t="t" r="r" b="b"/>
              <a:pathLst>
                <a:path w="1089" h="216">
                  <a:moveTo>
                    <a:pt x="0" y="0"/>
                  </a:moveTo>
                  <a:lnTo>
                    <a:pt x="0" y="216"/>
                  </a:lnTo>
                  <a:lnTo>
                    <a:pt x="1089" y="216"/>
                  </a:lnTo>
                  <a:lnTo>
                    <a:pt x="1089" y="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077" y="12"/>
                  </a:lnTo>
                  <a:lnTo>
                    <a:pt x="1077" y="204"/>
                  </a:lnTo>
                  <a:lnTo>
                    <a:pt x="12" y="204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27400" y="2652480"/>
              <a:ext cx="79200" cy="9000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60" y="6"/>
                  </a:moveTo>
                  <a:lnTo>
                    <a:pt x="58" y="4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8"/>
                  </a:lnTo>
                  <a:lnTo>
                    <a:pt x="54" y="8"/>
                  </a:lnTo>
                  <a:lnTo>
                    <a:pt x="52" y="10"/>
                  </a:lnTo>
                  <a:lnTo>
                    <a:pt x="50" y="10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39" y="15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1" y="21"/>
                  </a:lnTo>
                  <a:lnTo>
                    <a:pt x="27" y="21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25" y="38"/>
                  </a:lnTo>
                  <a:lnTo>
                    <a:pt x="27" y="40"/>
                  </a:lnTo>
                  <a:lnTo>
                    <a:pt x="29" y="40"/>
                  </a:lnTo>
                  <a:lnTo>
                    <a:pt x="29" y="42"/>
                  </a:lnTo>
                  <a:lnTo>
                    <a:pt x="33" y="42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6"/>
                  </a:lnTo>
                  <a:lnTo>
                    <a:pt x="37" y="46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0"/>
                  </a:lnTo>
                  <a:lnTo>
                    <a:pt x="54" y="61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8" y="63"/>
                  </a:lnTo>
                  <a:lnTo>
                    <a:pt x="58" y="65"/>
                  </a:lnTo>
                  <a:lnTo>
                    <a:pt x="60" y="65"/>
                  </a:lnTo>
                  <a:lnTo>
                    <a:pt x="60" y="67"/>
                  </a:lnTo>
                  <a:lnTo>
                    <a:pt x="62" y="67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6" y="75"/>
                  </a:lnTo>
                  <a:lnTo>
                    <a:pt x="66" y="69"/>
                  </a:lnTo>
                  <a:lnTo>
                    <a:pt x="64" y="67"/>
                  </a:lnTo>
                  <a:lnTo>
                    <a:pt x="64" y="46"/>
                  </a:lnTo>
                  <a:lnTo>
                    <a:pt x="62" y="44"/>
                  </a:lnTo>
                  <a:lnTo>
                    <a:pt x="62" y="23"/>
                  </a:lnTo>
                  <a:lnTo>
                    <a:pt x="60" y="21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25960" y="2647800"/>
              <a:ext cx="85680" cy="94680"/>
            </a:xfrm>
            <a:custGeom>
              <a:avLst/>
              <a:gdLst/>
              <a:ahLst/>
              <a:rect l="l" t="t" r="r" b="b"/>
              <a:pathLst>
                <a:path w="71" h="79">
                  <a:moveTo>
                    <a:pt x="65" y="8"/>
                  </a:moveTo>
                  <a:lnTo>
                    <a:pt x="63" y="6"/>
                  </a:lnTo>
                  <a:lnTo>
                    <a:pt x="61" y="8"/>
                  </a:lnTo>
                  <a:lnTo>
                    <a:pt x="65" y="10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9" y="8"/>
                  </a:lnTo>
                  <a:lnTo>
                    <a:pt x="55" y="6"/>
                  </a:lnTo>
                  <a:lnTo>
                    <a:pt x="57" y="10"/>
                  </a:lnTo>
                  <a:lnTo>
                    <a:pt x="53" y="8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9" y="14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38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34" y="21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4" y="21"/>
                  </a:lnTo>
                  <a:lnTo>
                    <a:pt x="26" y="25"/>
                  </a:lnTo>
                  <a:lnTo>
                    <a:pt x="24" y="23"/>
                  </a:lnTo>
                  <a:lnTo>
                    <a:pt x="23" y="25"/>
                  </a:lnTo>
                  <a:lnTo>
                    <a:pt x="17" y="25"/>
                  </a:lnTo>
                  <a:lnTo>
                    <a:pt x="19" y="29"/>
                  </a:lnTo>
                  <a:lnTo>
                    <a:pt x="17" y="27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1" y="31"/>
                  </a:lnTo>
                  <a:lnTo>
                    <a:pt x="7" y="31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5"/>
                  </a:lnTo>
                  <a:lnTo>
                    <a:pt x="3" y="35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28" y="46"/>
                  </a:lnTo>
                  <a:lnTo>
                    <a:pt x="26" y="50"/>
                  </a:lnTo>
                  <a:lnTo>
                    <a:pt x="32" y="48"/>
                  </a:lnTo>
                  <a:lnTo>
                    <a:pt x="30" y="52"/>
                  </a:lnTo>
                  <a:lnTo>
                    <a:pt x="34" y="50"/>
                  </a:lnTo>
                  <a:lnTo>
                    <a:pt x="32" y="54"/>
                  </a:lnTo>
                  <a:lnTo>
                    <a:pt x="36" y="54"/>
                  </a:lnTo>
                  <a:lnTo>
                    <a:pt x="40" y="58"/>
                  </a:lnTo>
                  <a:lnTo>
                    <a:pt x="42" y="56"/>
                  </a:lnTo>
                  <a:lnTo>
                    <a:pt x="40" y="60"/>
                  </a:lnTo>
                  <a:lnTo>
                    <a:pt x="44" y="58"/>
                  </a:lnTo>
                  <a:lnTo>
                    <a:pt x="42" y="62"/>
                  </a:lnTo>
                  <a:lnTo>
                    <a:pt x="46" y="62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7"/>
                  </a:lnTo>
                  <a:lnTo>
                    <a:pt x="53" y="65"/>
                  </a:lnTo>
                  <a:lnTo>
                    <a:pt x="51" y="69"/>
                  </a:lnTo>
                  <a:lnTo>
                    <a:pt x="55" y="67"/>
                  </a:lnTo>
                  <a:lnTo>
                    <a:pt x="53" y="71"/>
                  </a:lnTo>
                  <a:lnTo>
                    <a:pt x="57" y="69"/>
                  </a:lnTo>
                  <a:lnTo>
                    <a:pt x="55" y="73"/>
                  </a:lnTo>
                  <a:lnTo>
                    <a:pt x="59" y="71"/>
                  </a:lnTo>
                  <a:lnTo>
                    <a:pt x="57" y="75"/>
                  </a:lnTo>
                  <a:lnTo>
                    <a:pt x="61" y="75"/>
                  </a:lnTo>
                  <a:lnTo>
                    <a:pt x="63" y="77"/>
                  </a:lnTo>
                  <a:lnTo>
                    <a:pt x="65" y="75"/>
                  </a:lnTo>
                  <a:lnTo>
                    <a:pt x="67" y="79"/>
                  </a:lnTo>
                  <a:lnTo>
                    <a:pt x="71" y="71"/>
                  </a:lnTo>
                  <a:lnTo>
                    <a:pt x="69" y="69"/>
                  </a:lnTo>
                  <a:lnTo>
                    <a:pt x="69" y="48"/>
                  </a:lnTo>
                  <a:lnTo>
                    <a:pt x="67" y="46"/>
                  </a:lnTo>
                  <a:lnTo>
                    <a:pt x="67" y="25"/>
                  </a:lnTo>
                  <a:lnTo>
                    <a:pt x="65" y="23"/>
                  </a:lnTo>
                  <a:lnTo>
                    <a:pt x="65" y="8"/>
                  </a:lnTo>
                  <a:lnTo>
                    <a:pt x="57" y="12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9" y="50"/>
                  </a:lnTo>
                  <a:lnTo>
                    <a:pt x="61" y="52"/>
                  </a:lnTo>
                  <a:lnTo>
                    <a:pt x="61" y="73"/>
                  </a:lnTo>
                  <a:lnTo>
                    <a:pt x="63" y="75"/>
                  </a:lnTo>
                  <a:lnTo>
                    <a:pt x="63" y="79"/>
                  </a:lnTo>
                  <a:lnTo>
                    <a:pt x="71" y="79"/>
                  </a:lnTo>
                  <a:lnTo>
                    <a:pt x="71" y="69"/>
                  </a:lnTo>
                  <a:lnTo>
                    <a:pt x="67" y="69"/>
                  </a:lnTo>
                  <a:lnTo>
                    <a:pt x="65" y="67"/>
                  </a:lnTo>
                  <a:lnTo>
                    <a:pt x="63" y="69"/>
                  </a:lnTo>
                  <a:lnTo>
                    <a:pt x="65" y="65"/>
                  </a:lnTo>
                  <a:lnTo>
                    <a:pt x="61" y="67"/>
                  </a:lnTo>
                  <a:lnTo>
                    <a:pt x="63" y="64"/>
                  </a:lnTo>
                  <a:lnTo>
                    <a:pt x="59" y="65"/>
                  </a:lnTo>
                  <a:lnTo>
                    <a:pt x="61" y="62"/>
                  </a:lnTo>
                  <a:lnTo>
                    <a:pt x="57" y="64"/>
                  </a:lnTo>
                  <a:lnTo>
                    <a:pt x="59" y="60"/>
                  </a:lnTo>
                  <a:lnTo>
                    <a:pt x="55" y="60"/>
                  </a:lnTo>
                  <a:lnTo>
                    <a:pt x="53" y="58"/>
                  </a:lnTo>
                  <a:lnTo>
                    <a:pt x="51" y="60"/>
                  </a:lnTo>
                  <a:lnTo>
                    <a:pt x="53" y="58"/>
                  </a:lnTo>
                  <a:lnTo>
                    <a:pt x="49" y="54"/>
                  </a:lnTo>
                  <a:lnTo>
                    <a:pt x="48" y="56"/>
                  </a:lnTo>
                  <a:lnTo>
                    <a:pt x="49" y="52"/>
                  </a:lnTo>
                  <a:lnTo>
                    <a:pt x="46" y="54"/>
                  </a:lnTo>
                  <a:lnTo>
                    <a:pt x="48" y="50"/>
                  </a:lnTo>
                  <a:lnTo>
                    <a:pt x="44" y="50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8" y="42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28" y="39"/>
                  </a:lnTo>
                  <a:lnTo>
                    <a:pt x="1" y="39"/>
                  </a:lnTo>
                  <a:lnTo>
                    <a:pt x="1" y="46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9" y="42"/>
                  </a:lnTo>
                  <a:lnTo>
                    <a:pt x="11" y="40"/>
                  </a:lnTo>
                  <a:lnTo>
                    <a:pt x="15" y="40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7" y="37"/>
                  </a:lnTo>
                  <a:lnTo>
                    <a:pt x="19" y="37"/>
                  </a:lnTo>
                  <a:lnTo>
                    <a:pt x="21" y="35"/>
                  </a:lnTo>
                  <a:lnTo>
                    <a:pt x="24" y="35"/>
                  </a:lnTo>
                  <a:lnTo>
                    <a:pt x="23" y="31"/>
                  </a:lnTo>
                  <a:lnTo>
                    <a:pt x="26" y="33"/>
                  </a:lnTo>
                  <a:lnTo>
                    <a:pt x="28" y="31"/>
                  </a:lnTo>
                  <a:lnTo>
                    <a:pt x="32" y="31"/>
                  </a:lnTo>
                  <a:lnTo>
                    <a:pt x="30" y="27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40" y="27"/>
                  </a:lnTo>
                  <a:lnTo>
                    <a:pt x="38" y="23"/>
                  </a:lnTo>
                  <a:lnTo>
                    <a:pt x="40" y="25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46" y="19"/>
                  </a:lnTo>
                  <a:lnTo>
                    <a:pt x="51" y="21"/>
                  </a:lnTo>
                  <a:lnTo>
                    <a:pt x="49" y="17"/>
                  </a:lnTo>
                  <a:lnTo>
                    <a:pt x="55" y="19"/>
                  </a:lnTo>
                  <a:lnTo>
                    <a:pt x="53" y="16"/>
                  </a:lnTo>
                  <a:lnTo>
                    <a:pt x="55" y="17"/>
                  </a:lnTo>
                  <a:lnTo>
                    <a:pt x="57" y="16"/>
                  </a:lnTo>
                  <a:lnTo>
                    <a:pt x="63" y="16"/>
                  </a:lnTo>
                  <a:lnTo>
                    <a:pt x="61" y="12"/>
                  </a:lnTo>
                  <a:lnTo>
                    <a:pt x="65" y="14"/>
                  </a:lnTo>
                  <a:lnTo>
                    <a:pt x="63" y="10"/>
                  </a:lnTo>
                  <a:lnTo>
                    <a:pt x="67" y="12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9" y="4"/>
                  </a:lnTo>
                  <a:lnTo>
                    <a:pt x="55" y="2"/>
                  </a:lnTo>
                  <a:lnTo>
                    <a:pt x="55" y="10"/>
                  </a:lnTo>
                  <a:lnTo>
                    <a:pt x="57" y="12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67240" y="3187440"/>
              <a:ext cx="3124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622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44800" y="3187440"/>
              <a:ext cx="3146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3182760"/>
              <a:ext cx="32220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452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1948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2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60" y="276"/>
                  </a:lnTo>
                  <a:lnTo>
                    <a:pt x="187" y="267"/>
                  </a:lnTo>
                  <a:lnTo>
                    <a:pt x="208" y="255"/>
                  </a:lnTo>
                  <a:lnTo>
                    <a:pt x="246" y="217"/>
                  </a:lnTo>
                  <a:lnTo>
                    <a:pt x="258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8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8" y="23"/>
                  </a:lnTo>
                  <a:lnTo>
                    <a:pt x="187" y="9"/>
                  </a:lnTo>
                  <a:lnTo>
                    <a:pt x="160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1" y="40"/>
                  </a:lnTo>
                  <a:lnTo>
                    <a:pt x="22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8" y="88"/>
                  </a:lnTo>
                  <a:lnTo>
                    <a:pt x="29" y="65"/>
                  </a:lnTo>
                  <a:lnTo>
                    <a:pt x="45" y="44"/>
                  </a:lnTo>
                  <a:lnTo>
                    <a:pt x="64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60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8" y="111"/>
                  </a:lnTo>
                  <a:lnTo>
                    <a:pt x="260" y="138"/>
                  </a:lnTo>
                  <a:lnTo>
                    <a:pt x="258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60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4" y="248"/>
                  </a:lnTo>
                  <a:lnTo>
                    <a:pt x="45" y="232"/>
                  </a:lnTo>
                  <a:lnTo>
                    <a:pt x="29" y="213"/>
                  </a:lnTo>
                  <a:lnTo>
                    <a:pt x="18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0208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974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81440" y="3187440"/>
              <a:ext cx="3128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7676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38640" y="3338280"/>
              <a:ext cx="1690560" cy="282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77000" y="3193920"/>
              <a:ext cx="322200" cy="410760"/>
            </a:xfrm>
            <a:custGeom>
              <a:avLst/>
              <a:gdLst/>
              <a:ahLst/>
              <a:rect l="l" t="t" r="r" b="b"/>
              <a:pathLst>
                <a:path w="268" h="343">
                  <a:moveTo>
                    <a:pt x="7" y="315"/>
                  </a:moveTo>
                  <a:lnTo>
                    <a:pt x="40" y="343"/>
                  </a:lnTo>
                  <a:lnTo>
                    <a:pt x="268" y="0"/>
                  </a:lnTo>
                  <a:lnTo>
                    <a:pt x="67" y="0"/>
                  </a:lnTo>
                  <a:lnTo>
                    <a:pt x="23" y="169"/>
                  </a:lnTo>
                  <a:lnTo>
                    <a:pt x="0" y="253"/>
                  </a:lnTo>
                  <a:lnTo>
                    <a:pt x="0" y="315"/>
                  </a:lnTo>
                  <a:lnTo>
                    <a:pt x="7" y="3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71960" y="3187440"/>
              <a:ext cx="336600" cy="42516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9" y="322"/>
                  </a:moveTo>
                  <a:lnTo>
                    <a:pt x="44" y="353"/>
                  </a:lnTo>
                  <a:lnTo>
                    <a:pt x="280" y="0"/>
                  </a:lnTo>
                  <a:lnTo>
                    <a:pt x="67" y="0"/>
                  </a:lnTo>
                  <a:lnTo>
                    <a:pt x="23" y="171"/>
                  </a:lnTo>
                  <a:lnTo>
                    <a:pt x="0" y="257"/>
                  </a:lnTo>
                  <a:lnTo>
                    <a:pt x="0" y="319"/>
                  </a:lnTo>
                  <a:lnTo>
                    <a:pt x="8" y="319"/>
                  </a:lnTo>
                  <a:lnTo>
                    <a:pt x="8" y="257"/>
                  </a:lnTo>
                  <a:lnTo>
                    <a:pt x="31" y="174"/>
                  </a:lnTo>
                  <a:lnTo>
                    <a:pt x="75" y="7"/>
                  </a:lnTo>
                  <a:lnTo>
                    <a:pt x="265" y="7"/>
                  </a:lnTo>
                  <a:lnTo>
                    <a:pt x="44" y="342"/>
                  </a:lnTo>
                  <a:lnTo>
                    <a:pt x="13" y="317"/>
                  </a:lnTo>
                  <a:lnTo>
                    <a:pt x="9" y="32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95640" y="2860560"/>
              <a:ext cx="461880" cy="728280"/>
            </a:xfrm>
            <a:custGeom>
              <a:avLst/>
              <a:gdLst/>
              <a:ahLst/>
              <a:rect l="l" t="t" r="r" b="b"/>
              <a:pathLst>
                <a:path w="384" h="607">
                  <a:moveTo>
                    <a:pt x="200" y="607"/>
                  </a:moveTo>
                  <a:lnTo>
                    <a:pt x="165" y="494"/>
                  </a:lnTo>
                  <a:lnTo>
                    <a:pt x="132" y="492"/>
                  </a:lnTo>
                  <a:lnTo>
                    <a:pt x="94" y="471"/>
                  </a:lnTo>
                  <a:lnTo>
                    <a:pt x="67" y="442"/>
                  </a:lnTo>
                  <a:lnTo>
                    <a:pt x="44" y="409"/>
                  </a:lnTo>
                  <a:lnTo>
                    <a:pt x="13" y="342"/>
                  </a:lnTo>
                  <a:lnTo>
                    <a:pt x="0" y="282"/>
                  </a:lnTo>
                  <a:lnTo>
                    <a:pt x="86" y="282"/>
                  </a:lnTo>
                  <a:lnTo>
                    <a:pt x="86" y="132"/>
                  </a:lnTo>
                  <a:lnTo>
                    <a:pt x="144" y="132"/>
                  </a:lnTo>
                  <a:lnTo>
                    <a:pt x="144" y="0"/>
                  </a:lnTo>
                  <a:lnTo>
                    <a:pt x="215" y="0"/>
                  </a:lnTo>
                  <a:lnTo>
                    <a:pt x="215" y="94"/>
                  </a:lnTo>
                  <a:lnTo>
                    <a:pt x="246" y="94"/>
                  </a:lnTo>
                  <a:lnTo>
                    <a:pt x="250" y="186"/>
                  </a:lnTo>
                  <a:lnTo>
                    <a:pt x="303" y="186"/>
                  </a:lnTo>
                  <a:lnTo>
                    <a:pt x="307" y="280"/>
                  </a:lnTo>
                  <a:lnTo>
                    <a:pt x="384" y="398"/>
                  </a:lnTo>
                  <a:lnTo>
                    <a:pt x="200" y="60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20920" y="2803320"/>
              <a:ext cx="17640" cy="290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03720" y="2622600"/>
              <a:ext cx="12600" cy="49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09920" y="3313080"/>
              <a:ext cx="3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005280" y="320688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167600" y="2597040"/>
            <a:ext cx="1339560" cy="1049400"/>
            <a:chOff x="7167600" y="2597040"/>
            <a:chExt cx="1339560" cy="1049400"/>
          </a:xfrm>
        </p:grpSpPr>
        <p:sp>
          <p:nvSpPr>
            <p:cNvPr id="386" name=""/>
            <p:cNvSpPr/>
            <p:nvPr/>
          </p:nvSpPr>
          <p:spPr>
            <a:xfrm>
              <a:off x="7489800" y="2913120"/>
              <a:ext cx="596880" cy="669960"/>
            </a:xfrm>
            <a:custGeom>
              <a:avLst/>
              <a:gdLst/>
              <a:ahLst/>
              <a:rect l="l" t="t" r="r" b="b"/>
              <a:pathLst>
                <a:path w="497" h="557">
                  <a:moveTo>
                    <a:pt x="497" y="546"/>
                  </a:moveTo>
                  <a:lnTo>
                    <a:pt x="292" y="546"/>
                  </a:lnTo>
                  <a:lnTo>
                    <a:pt x="292" y="0"/>
                  </a:lnTo>
                  <a:lnTo>
                    <a:pt x="13" y="0"/>
                  </a:lnTo>
                  <a:lnTo>
                    <a:pt x="13" y="102"/>
                  </a:lnTo>
                  <a:lnTo>
                    <a:pt x="0" y="144"/>
                  </a:lnTo>
                  <a:lnTo>
                    <a:pt x="12" y="148"/>
                  </a:lnTo>
                  <a:lnTo>
                    <a:pt x="25" y="102"/>
                  </a:lnTo>
                  <a:lnTo>
                    <a:pt x="25" y="12"/>
                  </a:lnTo>
                  <a:lnTo>
                    <a:pt x="280" y="12"/>
                  </a:lnTo>
                  <a:lnTo>
                    <a:pt x="280" y="557"/>
                  </a:lnTo>
                  <a:lnTo>
                    <a:pt x="497" y="557"/>
                  </a:lnTo>
                  <a:lnTo>
                    <a:pt x="497" y="54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97680" y="2663640"/>
              <a:ext cx="6984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390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914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438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62760" y="3343320"/>
              <a:ext cx="644400" cy="258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66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166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69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27920" y="2597040"/>
              <a:ext cx="539640" cy="804960"/>
            </a:xfrm>
            <a:custGeom>
              <a:avLst/>
              <a:gdLst/>
              <a:ahLst/>
              <a:rect l="l" t="t" r="r" b="b"/>
              <a:pathLst>
                <a:path w="449" h="670">
                  <a:moveTo>
                    <a:pt x="0" y="0"/>
                  </a:moveTo>
                  <a:lnTo>
                    <a:pt x="0" y="670"/>
                  </a:lnTo>
                  <a:lnTo>
                    <a:pt x="449" y="670"/>
                  </a:lnTo>
                  <a:lnTo>
                    <a:pt x="449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438" y="12"/>
                  </a:lnTo>
                  <a:lnTo>
                    <a:pt x="438" y="659"/>
                  </a:lnTo>
                  <a:lnTo>
                    <a:pt x="11" y="659"/>
                  </a:lnTo>
                  <a:lnTo>
                    <a:pt x="11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7600" y="3041640"/>
              <a:ext cx="577800" cy="60480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357960" y="3156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38098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Regasificaci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20625000">
            <a:off x="1709640" y="132696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76480 h 1523880"/>
              <a:gd name="textAreaBottom" fmla="*/ 10278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2029787"/>
                <a:lnTo>
                  <a:pt x="10292" y="20652"/>
                </a:lnTo>
                <a:lnTo>
                  <a:pt x="0" y="17092"/>
                </a:lnTo>
                <a:lnTo>
                  <a:pt x="10292" y="11635"/>
                </a:lnTo>
                <a:lnTo>
                  <a:pt x="10292" y="14743"/>
                </a:lnTo>
                <a:arcTo wR="21600" hR="7846" stAng="2029787" swAng="-1803579"/>
                <a:lnTo>
                  <a:pt x="21253" y="9246"/>
                </a:lnTo>
                <a:arcTo wR="21600" hR="7846" stAng="-226208" swAng="-5173792"/>
                <a:close/>
              </a:path>
              <a:path fill="darkenLess"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-226208"/>
                <a:lnTo>
                  <a:pt x="21253" y="9246"/>
                </a:lnTo>
                <a:arcTo wR="21600" hR="7846" stAng="-226208" swAng="-5173792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862440"/>
            <a:ext cx="3048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L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Licuef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95240" y="2664000"/>
            <a:ext cx="1874880" cy="1099800"/>
            <a:chOff x="795240" y="2664000"/>
            <a:chExt cx="1874880" cy="1099800"/>
          </a:xfrm>
        </p:grpSpPr>
        <p:grpSp>
          <p:nvGrpSpPr>
            <p:cNvPr id="402" name=""/>
            <p:cNvGrpSpPr/>
            <p:nvPr/>
          </p:nvGrpSpPr>
          <p:grpSpPr>
            <a:xfrm>
              <a:off x="795240" y="2664000"/>
              <a:ext cx="1870200" cy="1087200"/>
              <a:chOff x="795240" y="2664000"/>
              <a:chExt cx="1870200" cy="1087200"/>
            </a:xfrm>
          </p:grpSpPr>
          <p:sp>
            <p:nvSpPr>
              <p:cNvPr id="403" name=""/>
              <p:cNvSpPr/>
              <p:nvPr/>
            </p:nvSpPr>
            <p:spPr>
              <a:xfrm>
                <a:off x="190332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328760" y="2735280"/>
                <a:ext cx="8568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444680" y="2735280"/>
                <a:ext cx="824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11160" y="2735280"/>
                <a:ext cx="842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025280" y="2735280"/>
                <a:ext cx="860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41200" y="2735280"/>
                <a:ext cx="8280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762200" y="2949480"/>
                <a:ext cx="554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61748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60240" y="3295800"/>
                <a:ext cx="433440" cy="44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95240" y="3465360"/>
                <a:ext cx="770040" cy="279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4608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5876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16820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6044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41320" y="2664000"/>
                <a:ext cx="642960" cy="865080"/>
              </a:xfrm>
              <a:custGeom>
                <a:avLst/>
                <a:gdLst/>
                <a:ahLst/>
                <a:rect l="l" t="t" r="r" b="b"/>
                <a:pathLst>
                  <a:path w="53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36" y="720"/>
                    </a:lnTo>
                    <a:lnTo>
                      <a:pt x="536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525" y="12"/>
                    </a:lnTo>
                    <a:lnTo>
                      <a:pt x="525" y="708"/>
                    </a:lnTo>
                    <a:lnTo>
                      <a:pt x="12" y="708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17560" y="3019320"/>
                <a:ext cx="655560" cy="719280"/>
              </a:xfrm>
              <a:custGeom>
                <a:avLst/>
                <a:gdLst/>
                <a:ahLst/>
                <a:rect l="l" t="t" r="r" b="b"/>
                <a:pathLst>
                  <a:path w="545" h="599">
                    <a:moveTo>
                      <a:pt x="0" y="599"/>
                    </a:moveTo>
                    <a:lnTo>
                      <a:pt x="259" y="599"/>
                    </a:lnTo>
                    <a:lnTo>
                      <a:pt x="259" y="11"/>
                    </a:lnTo>
                    <a:lnTo>
                      <a:pt x="518" y="11"/>
                    </a:lnTo>
                    <a:lnTo>
                      <a:pt x="518" y="109"/>
                    </a:lnTo>
                    <a:lnTo>
                      <a:pt x="534" y="157"/>
                    </a:lnTo>
                    <a:lnTo>
                      <a:pt x="545" y="153"/>
                    </a:lnTo>
                    <a:lnTo>
                      <a:pt x="530" y="109"/>
                    </a:lnTo>
                    <a:lnTo>
                      <a:pt x="530" y="0"/>
                    </a:lnTo>
                    <a:lnTo>
                      <a:pt x="248" y="0"/>
                    </a:lnTo>
                    <a:lnTo>
                      <a:pt x="248" y="587"/>
                    </a:lnTo>
                    <a:lnTo>
                      <a:pt x="0" y="587"/>
                    </a:lnTo>
                    <a:lnTo>
                      <a:pt x="0" y="599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66760" y="3122640"/>
                <a:ext cx="598680" cy="628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2062080" y="3125880"/>
              <a:ext cx="608040" cy="63792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767040" y="370836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947880" y="260280"/>
            <a:ext cx="484200" cy="1424160"/>
            <a:chOff x="947880" y="260280"/>
            <a:chExt cx="484200" cy="1424160"/>
          </a:xfrm>
        </p:grpSpPr>
        <p:sp>
          <p:nvSpPr>
            <p:cNvPr id="423" name=""/>
            <p:cNvSpPr/>
            <p:nvPr/>
          </p:nvSpPr>
          <p:spPr>
            <a:xfrm>
              <a:off x="1008000" y="264960"/>
              <a:ext cx="366840" cy="1414440"/>
            </a:xfrm>
            <a:custGeom>
              <a:avLst/>
              <a:gdLst/>
              <a:ahLst/>
              <a:rect l="l" t="t" r="r" b="b"/>
              <a:pathLst>
                <a:path w="305" h="1177">
                  <a:moveTo>
                    <a:pt x="305" y="1177"/>
                  </a:moveTo>
                  <a:lnTo>
                    <a:pt x="240" y="0"/>
                  </a:lnTo>
                  <a:lnTo>
                    <a:pt x="63" y="0"/>
                  </a:lnTo>
                  <a:lnTo>
                    <a:pt x="0" y="1177"/>
                  </a:lnTo>
                  <a:lnTo>
                    <a:pt x="305" y="1177"/>
                  </a:lnTo>
                  <a:lnTo>
                    <a:pt x="290" y="1162"/>
                  </a:lnTo>
                  <a:lnTo>
                    <a:pt x="15" y="1162"/>
                  </a:lnTo>
                  <a:lnTo>
                    <a:pt x="79" y="15"/>
                  </a:lnTo>
                  <a:lnTo>
                    <a:pt x="225" y="15"/>
                  </a:lnTo>
                  <a:lnTo>
                    <a:pt x="290" y="1162"/>
                  </a:lnTo>
                  <a:lnTo>
                    <a:pt x="305" y="117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08000" y="662040"/>
              <a:ext cx="368280" cy="149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98640" y="654120"/>
              <a:ext cx="385560" cy="164880"/>
            </a:xfrm>
            <a:custGeom>
              <a:avLst/>
              <a:gdLst/>
              <a:ahLst/>
              <a:rect l="l" t="t" r="r" b="b"/>
              <a:pathLst>
                <a:path w="321" h="138">
                  <a:moveTo>
                    <a:pt x="0" y="0"/>
                  </a:moveTo>
                  <a:lnTo>
                    <a:pt x="0" y="138"/>
                  </a:lnTo>
                  <a:lnTo>
                    <a:pt x="321" y="138"/>
                  </a:lnTo>
                  <a:lnTo>
                    <a:pt x="321" y="0"/>
                  </a:lnTo>
                  <a:lnTo>
                    <a:pt x="0" y="0"/>
                  </a:lnTo>
                  <a:lnTo>
                    <a:pt x="16" y="15"/>
                  </a:lnTo>
                  <a:lnTo>
                    <a:pt x="305" y="15"/>
                  </a:lnTo>
                  <a:lnTo>
                    <a:pt x="305" y="122"/>
                  </a:lnTo>
                  <a:lnTo>
                    <a:pt x="16" y="122"/>
                  </a:lnTo>
                  <a:lnTo>
                    <a:pt x="1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47880" y="1633320"/>
              <a:ext cx="484200" cy="51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55880" y="326880"/>
              <a:ext cx="269640" cy="49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47600" y="317520"/>
              <a:ext cx="285840" cy="65160"/>
            </a:xfrm>
            <a:custGeom>
              <a:avLst/>
              <a:gdLst/>
              <a:ahLst/>
              <a:rect l="l" t="t" r="r" b="b"/>
              <a:pathLst>
                <a:path w="238" h="54">
                  <a:moveTo>
                    <a:pt x="0" y="0"/>
                  </a:moveTo>
                  <a:lnTo>
                    <a:pt x="0" y="54"/>
                  </a:lnTo>
                  <a:lnTo>
                    <a:pt x="238" y="54"/>
                  </a:lnTo>
                  <a:lnTo>
                    <a:pt x="238" y="0"/>
                  </a:lnTo>
                  <a:lnTo>
                    <a:pt x="0" y="0"/>
                  </a:lnTo>
                  <a:lnTo>
                    <a:pt x="15" y="15"/>
                  </a:lnTo>
                  <a:lnTo>
                    <a:pt x="222" y="15"/>
                  </a:lnTo>
                  <a:lnTo>
                    <a:pt x="222" y="38"/>
                  </a:lnTo>
                  <a:lnTo>
                    <a:pt x="15" y="38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30320" y="1395360"/>
              <a:ext cx="31896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39680" y="1181160"/>
              <a:ext cx="30024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50840" y="987480"/>
              <a:ext cx="279360" cy="17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73160" y="520560"/>
              <a:ext cx="23328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3160" y="376200"/>
              <a:ext cx="233280" cy="0"/>
            </a:xfrm>
            <a:prstGeom prst="line">
              <a:avLst/>
            </a:prstGeom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19160" y="1606320"/>
              <a:ext cx="341280" cy="1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23840" y="1403280"/>
              <a:ext cx="331920" cy="214200"/>
            </a:xfrm>
            <a:custGeom>
              <a:avLst/>
              <a:gdLst/>
              <a:ahLst/>
              <a:rect l="l" t="t" r="r" b="b"/>
              <a:pathLst>
                <a:path w="277" h="178">
                  <a:moveTo>
                    <a:pt x="269" y="0"/>
                  </a:moveTo>
                  <a:lnTo>
                    <a:pt x="0" y="167"/>
                  </a:lnTo>
                  <a:lnTo>
                    <a:pt x="8" y="178"/>
                  </a:lnTo>
                  <a:lnTo>
                    <a:pt x="277" y="11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20960" y="1403280"/>
              <a:ext cx="338040" cy="214200"/>
            </a:xfrm>
            <a:custGeom>
              <a:avLst/>
              <a:gdLst/>
              <a:ahLst/>
              <a:rect l="l" t="t" r="r" b="b"/>
              <a:pathLst>
                <a:path w="281" h="178">
                  <a:moveTo>
                    <a:pt x="0" y="11"/>
                  </a:moveTo>
                  <a:lnTo>
                    <a:pt x="273" y="178"/>
                  </a:lnTo>
                  <a:lnTo>
                    <a:pt x="281" y="167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35000" y="1187280"/>
              <a:ext cx="309600" cy="217440"/>
            </a:xfrm>
            <a:custGeom>
              <a:avLst/>
              <a:gdLst/>
              <a:ahLst/>
              <a:rect l="l" t="t" r="r" b="b"/>
              <a:pathLst>
                <a:path w="257" h="181">
                  <a:moveTo>
                    <a:pt x="250" y="0"/>
                  </a:moveTo>
                  <a:lnTo>
                    <a:pt x="0" y="169"/>
                  </a:lnTo>
                  <a:lnTo>
                    <a:pt x="8" y="181"/>
                  </a:lnTo>
                  <a:lnTo>
                    <a:pt x="257" y="1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35000" y="1185840"/>
              <a:ext cx="311400" cy="222120"/>
            </a:xfrm>
            <a:custGeom>
              <a:avLst/>
              <a:gdLst/>
              <a:ahLst/>
              <a:rect l="l" t="t" r="r" b="b"/>
              <a:pathLst>
                <a:path w="259" h="185">
                  <a:moveTo>
                    <a:pt x="0" y="12"/>
                  </a:moveTo>
                  <a:lnTo>
                    <a:pt x="251" y="185"/>
                  </a:lnTo>
                  <a:lnTo>
                    <a:pt x="259" y="17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44720" y="992160"/>
              <a:ext cx="290520" cy="200160"/>
            </a:xfrm>
            <a:custGeom>
              <a:avLst/>
              <a:gdLst/>
              <a:ahLst/>
              <a:rect l="l" t="t" r="r" b="b"/>
              <a:pathLst>
                <a:path w="242" h="167">
                  <a:moveTo>
                    <a:pt x="234" y="0"/>
                  </a:moveTo>
                  <a:lnTo>
                    <a:pt x="0" y="155"/>
                  </a:lnTo>
                  <a:lnTo>
                    <a:pt x="7" y="167"/>
                  </a:lnTo>
                  <a:lnTo>
                    <a:pt x="242" y="11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44720" y="992160"/>
              <a:ext cx="291960" cy="200160"/>
            </a:xfrm>
            <a:custGeom>
              <a:avLst/>
              <a:gdLst/>
              <a:ahLst/>
              <a:rect l="l" t="t" r="r" b="b"/>
              <a:pathLst>
                <a:path w="243" h="167">
                  <a:moveTo>
                    <a:pt x="0" y="11"/>
                  </a:moveTo>
                  <a:lnTo>
                    <a:pt x="236" y="167"/>
                  </a:lnTo>
                  <a:lnTo>
                    <a:pt x="243" y="155"/>
                  </a:lnTo>
                  <a:lnTo>
                    <a:pt x="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58760" y="806400"/>
              <a:ext cx="262080" cy="190440"/>
            </a:xfrm>
            <a:custGeom>
              <a:avLst/>
              <a:gdLst/>
              <a:ahLst/>
              <a:rect l="l" t="t" r="r" b="b"/>
              <a:pathLst>
                <a:path w="219" h="158">
                  <a:moveTo>
                    <a:pt x="211" y="0"/>
                  </a:moveTo>
                  <a:lnTo>
                    <a:pt x="0" y="146"/>
                  </a:lnTo>
                  <a:lnTo>
                    <a:pt x="8" y="158"/>
                  </a:lnTo>
                  <a:lnTo>
                    <a:pt x="219" y="1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55880" y="804960"/>
              <a:ext cx="268200" cy="191880"/>
            </a:xfrm>
            <a:custGeom>
              <a:avLst/>
              <a:gdLst/>
              <a:ahLst/>
              <a:rect l="l" t="t" r="r" b="b"/>
              <a:pathLst>
                <a:path w="223" h="160">
                  <a:moveTo>
                    <a:pt x="0" y="12"/>
                  </a:moveTo>
                  <a:lnTo>
                    <a:pt x="215" y="160"/>
                  </a:lnTo>
                  <a:lnTo>
                    <a:pt x="223" y="148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186" y="0"/>
                  </a:moveTo>
                  <a:lnTo>
                    <a:pt x="0" y="102"/>
                  </a:lnTo>
                  <a:lnTo>
                    <a:pt x="7" y="117"/>
                  </a:lnTo>
                  <a:lnTo>
                    <a:pt x="193" y="15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0" y="15"/>
                  </a:moveTo>
                  <a:lnTo>
                    <a:pt x="186" y="117"/>
                  </a:lnTo>
                  <a:lnTo>
                    <a:pt x="193" y="102"/>
                  </a:lnTo>
                  <a:lnTo>
                    <a:pt x="7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173" y="0"/>
                  </a:moveTo>
                  <a:lnTo>
                    <a:pt x="0" y="123"/>
                  </a:lnTo>
                  <a:lnTo>
                    <a:pt x="8" y="135"/>
                  </a:lnTo>
                  <a:lnTo>
                    <a:pt x="181" y="1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0" y="12"/>
                  </a:moveTo>
                  <a:lnTo>
                    <a:pt x="173" y="135"/>
                  </a:lnTo>
                  <a:lnTo>
                    <a:pt x="181" y="12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95480" y="260280"/>
              <a:ext cx="189000" cy="50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0" y="165096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roducción del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4724280"/>
            <a:ext cx="5105520" cy="871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erú tendría la primera planta de LNG en Sudamé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380880"/>
            <a:ext cx="586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yecto de Exp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tación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dena de V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8280" y="6464160"/>
            <a:ext cx="1371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88400" y="6692760"/>
            <a:ext cx="1143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1876320"/>
            <a:ext cx="2210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3886200"/>
            <a:ext cx="2209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Barco Meta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2036-C70E-481E-8911-4771A9D528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160440" y="2006640"/>
            <a:ext cx="254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erminal de Rega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28760" y="2666880"/>
            <a:ext cx="197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 Marí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29080" y="3755880"/>
            <a:ext cx="2077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ozos y ampliación de instalaciones y gas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51680" y="5103720"/>
            <a:ext cx="2396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lanta, Almacenaje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fraestructura portu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29400" y="3543480"/>
            <a:ext cx="133200" cy="2438280"/>
          </a:xfrm>
          <a:custGeom>
            <a:avLst/>
            <a:gdLst>
              <a:gd name="textAreaLeft" fmla="*/ 0 w 133200"/>
              <a:gd name="textAreaRight" fmla="*/ 47880 w 133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65840" y="4259160"/>
            <a:ext cx="23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Inversión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el Per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$ 2,500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76240" y="1828800"/>
            <a:ext cx="266760" cy="4114800"/>
          </a:xfrm>
          <a:custGeom>
            <a:avLst/>
            <a:gdLst>
              <a:gd name="textAreaLeft" fmla="*/ 170640 w 266760"/>
              <a:gd name="textAreaRight" fmla="*/ 266760 w 26676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47760" y="4613400"/>
            <a:ext cx="1847880" cy="1358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47760" y="3892680"/>
            <a:ext cx="1847880" cy="72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47760" y="3141720"/>
            <a:ext cx="1847880" cy="750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47760" y="2397240"/>
            <a:ext cx="1847880" cy="744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47760" y="1835280"/>
            <a:ext cx="1847880" cy="561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39240" y="5187960"/>
            <a:ext cx="5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1,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35000" y="4148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35000" y="34290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35000" y="2666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35000" y="20113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65840" y="3429000"/>
            <a:ext cx="10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79160" y="413064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Upstrea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14880" y="3473280"/>
            <a:ext cx="74520" cy="113364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75920" y="5040360"/>
            <a:ext cx="104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sta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10200" y="4768920"/>
            <a:ext cx="74520" cy="113328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280"/>
              <a:gd name="textAreaBottom" fmla="*/ 1103760 h 11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18288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3080" y="35812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47242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91120" y="32004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6200000">
            <a:off x="-403560" y="366084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MM US$ 3,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2286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nversiones en 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983D-F0C7-45BE-840A-BA4368FA5E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039680" y="5881680"/>
            <a:ext cx="37785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2920" y="5950080"/>
            <a:ext cx="5905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El valor de las exportaciones del proyecto LNG  es el  promedio  anual 2009-2026,  para Yanacocha y Antamina es del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Promedio de valor de exportación anual a precios actu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25960" y="6669000"/>
            <a:ext cx="196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Fuente: Aduanas, BCR, empres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19440" y="1700280"/>
            <a:ext cx="653760" cy="37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94280" y="2381400"/>
            <a:ext cx="652320" cy="3071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57960" y="3625920"/>
            <a:ext cx="652320" cy="1827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73200" y="2781360"/>
            <a:ext cx="652680" cy="2671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746600" y="3933720"/>
            <a:ext cx="641520" cy="1519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10280" y="3573360"/>
            <a:ext cx="652680" cy="187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11120" y="5452920"/>
            <a:ext cx="2880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11120" y="468936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11120" y="392436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11120" y="317664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11120" y="241128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11120" y="164952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39920" y="5452920"/>
            <a:ext cx="68119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33992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61476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7700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815184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77480" y="1268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82560" y="2060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94040" y="3305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23680" y="2492280"/>
            <a:ext cx="7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800 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85840" y="36482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162200" y="3284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005120" y="45990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56800" y="38354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6800" y="3086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56800" y="23223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56800" y="155880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58320" y="5573880"/>
            <a:ext cx="112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Proyecto L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81200" y="5573880"/>
            <a:ext cx="75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ntam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05560" y="56055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Yanaco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1480" y="2549520"/>
            <a:ext cx="88920" cy="1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81320" y="2502000"/>
            <a:ext cx="72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745320" y="2549520"/>
            <a:ext cx="8892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40440" y="2502000"/>
            <a:ext cx="159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Exportación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56000" y="4724280"/>
            <a:ext cx="5302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49080" y="3860640"/>
            <a:ext cx="63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+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03640" y="2852640"/>
            <a:ext cx="73080" cy="2557440"/>
          </a:xfrm>
          <a:custGeom>
            <a:avLst/>
            <a:gdLst/>
            <a:ahLst/>
            <a:rect l="l" t="t" r="r" b="b"/>
            <a:pathLst>
              <a:path w="16" h="70">
                <a:moveTo>
                  <a:pt x="0" y="0"/>
                </a:moveTo>
                <a:cubicBezTo>
                  <a:pt x="4" y="0"/>
                  <a:pt x="8" y="3"/>
                  <a:pt x="8" y="6"/>
                </a:cubicBezTo>
                <a:lnTo>
                  <a:pt x="8" y="29"/>
                </a:lnTo>
                <a:cubicBezTo>
                  <a:pt x="8" y="32"/>
                  <a:pt x="12" y="35"/>
                  <a:pt x="16" y="35"/>
                </a:cubicBezTo>
                <a:cubicBezTo>
                  <a:pt x="12" y="35"/>
                  <a:pt x="8" y="38"/>
                  <a:pt x="8" y="41"/>
                </a:cubicBezTo>
                <a:lnTo>
                  <a:pt x="8" y="64"/>
                </a:lnTo>
                <a:cubicBezTo>
                  <a:pt x="8" y="67"/>
                  <a:pt x="4" y="70"/>
                  <a:pt x="0" y="70"/>
                </a:cubicBezTo>
              </a:path>
            </a:pathLst>
          </a:custGeom>
          <a:noFill/>
          <a:ln w="367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1311120" y="1447560"/>
            <a:ext cx="0" cy="39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6200000">
            <a:off x="304920" y="337896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Humanst521 BT"/>
              </a:rPr>
              <a:t>MMUS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84360" y="2781360"/>
            <a:ext cx="647640" cy="151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56000" y="4653000"/>
            <a:ext cx="39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8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533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Importancia d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C7C0-2BD8-4D56-938C-3AB0CB0044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44160" y="196920"/>
            <a:ext cx="746748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Valorización del Gas Natur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Mercado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828720" y="342900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xportación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120" y="1295280"/>
            <a:ext cx="800100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Generadores Eléctricos: US$ 1.0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Otros $ 1.8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precios indexados anual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181080" y="436572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1.   Regalías en Upstrea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enor o igual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ayor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       3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2.   Precio Gas en Boca de Pozo para Planta L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F3FB-2A58-4E28-A245-70A19BFE9D8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4160" y="196560"/>
            <a:ext cx="7467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Proyectos en competenc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¿Quiénes compiten con  el Per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15228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Camisea: fuente más cercana al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1295280"/>
            <a:ext cx="8001000" cy="24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Sakhalin Rusia</a:t>
            </a: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en construcción, operación en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Zócalo NW de Austr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3.   Malasia e Indon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4.   Mercado “Spot” en el Pa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l primer proyecto en llegar asegurará el mercado a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2081-E6F6-425C-B4E1-2BC0076911E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¿Qué es el gas natural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es una mezcla de hidrocarburos con cantidades variables de impurezas, que en estado natural se encuentra en estado gaseo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que llega a Lima vía gaseoducto es conocido como “Gas Natural Seco” y contiene principalmente metano (90%) y algo de etano (1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3276360" cy="3031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67280" y="38098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44956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930480"/>
            <a:ext cx="13716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4648320"/>
            <a:ext cx="762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31840" y="22860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mparación de la Ubicación de Camise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93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A696-3217-4953-B150-A8553CAE5F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93" y="1136"/>
                </a:lnTo>
                <a:lnTo>
                  <a:pt x="2192" y="1136"/>
                </a:lnTo>
                <a:lnTo>
                  <a:pt x="2391" y="1136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68" y="1148"/>
                </a:lnTo>
                <a:lnTo>
                  <a:pt x="2338" y="1127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</a:path>
            </a:pathLst>
          </a:custGeom>
          <a:gradFill rotWithShape="0">
            <a:gsLst>
              <a:gs pos="0">
                <a:srgbClr val="ff0381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16000" y="1628640"/>
            <a:ext cx="0" cy="403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76400" y="566244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76400" y="51037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76400" y="4543560"/>
            <a:ext cx="39600" cy="144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76400" y="39830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76400" y="3422520"/>
            <a:ext cx="39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76400" y="286236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42920" y="22766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76400" y="17413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16000" y="5661000"/>
            <a:ext cx="66420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1160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1432080" y="5662080"/>
            <a:ext cx="1440" cy="39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7478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0653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3814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269712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0146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3307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6482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963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2800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5957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9118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2275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5450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8611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1768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492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8086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1262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44228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7580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94880" y="5576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5040" y="445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25040" y="3336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25040" y="2216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8072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66184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0984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096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7208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13880" y="5897520"/>
            <a:ext cx="38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zo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perforados para expl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6200000">
            <a:off x="-255960" y="3211920"/>
            <a:ext cx="137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s,  T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35080" y="5005440"/>
            <a:ext cx="136440" cy="638280"/>
          </a:xfrm>
          <a:custGeom>
            <a:avLst/>
            <a:gdLst/>
            <a:ahLst/>
            <a:rect l="l" t="t" r="r" b="b"/>
            <a:pathLst>
              <a:path w="86" h="402">
                <a:moveTo>
                  <a:pt x="86" y="0"/>
                </a:moveTo>
                <a:lnTo>
                  <a:pt x="86" y="277"/>
                </a:lnTo>
                <a:lnTo>
                  <a:pt x="0" y="402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32160" y="3144960"/>
            <a:ext cx="4680" cy="630000"/>
          </a:xfrm>
          <a:custGeom>
            <a:avLst/>
            <a:gdLst/>
            <a:ahLst/>
            <a:rect l="l" t="t" r="r" b="b"/>
            <a:pathLst>
              <a:path w="3" h="397">
                <a:moveTo>
                  <a:pt x="2" y="0"/>
                </a:moveTo>
                <a:lnTo>
                  <a:pt x="0" y="322"/>
                </a:lnTo>
                <a:lnTo>
                  <a:pt x="3" y="397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39400" y="475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72960" y="28544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736040" y="1096920"/>
            <a:ext cx="0" cy="6303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73600" y="7621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738440" y="3814920"/>
            <a:ext cx="1582560" cy="1847520"/>
          </a:xfrm>
          <a:custGeom>
            <a:avLst/>
            <a:gdLst/>
            <a:ahLst/>
            <a:rect l="l" t="t" r="r" b="b"/>
            <a:pathLst>
              <a:path w="997" h="1164">
                <a:moveTo>
                  <a:pt x="0" y="1164"/>
                </a:moveTo>
                <a:lnTo>
                  <a:pt x="0" y="1164"/>
                </a:lnTo>
                <a:lnTo>
                  <a:pt x="200" y="883"/>
                </a:lnTo>
                <a:lnTo>
                  <a:pt x="399" y="417"/>
                </a:lnTo>
                <a:lnTo>
                  <a:pt x="598" y="409"/>
                </a:lnTo>
                <a:lnTo>
                  <a:pt x="798" y="190"/>
                </a:lnTo>
                <a:lnTo>
                  <a:pt x="997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38440" y="1735200"/>
            <a:ext cx="6016320" cy="3927240"/>
          </a:xfrm>
          <a:custGeom>
            <a:avLst/>
            <a:gdLst/>
            <a:ahLst/>
            <a:rect l="l" t="t" r="r" b="b"/>
            <a:pathLst>
              <a:path w="3790" h="2474">
                <a:moveTo>
                  <a:pt x="0" y="2474"/>
                </a:moveTo>
                <a:lnTo>
                  <a:pt x="0" y="2474"/>
                </a:lnTo>
                <a:lnTo>
                  <a:pt x="200" y="2193"/>
                </a:lnTo>
                <a:lnTo>
                  <a:pt x="399" y="1727"/>
                </a:lnTo>
                <a:lnTo>
                  <a:pt x="598" y="1719"/>
                </a:lnTo>
                <a:lnTo>
                  <a:pt x="798" y="1500"/>
                </a:lnTo>
                <a:lnTo>
                  <a:pt x="997" y="1310"/>
                </a:lnTo>
                <a:lnTo>
                  <a:pt x="1197" y="1225"/>
                </a:lnTo>
                <a:lnTo>
                  <a:pt x="1396" y="1225"/>
                </a:lnTo>
                <a:lnTo>
                  <a:pt x="1595" y="1140"/>
                </a:lnTo>
                <a:lnTo>
                  <a:pt x="1794" y="1140"/>
                </a:lnTo>
                <a:lnTo>
                  <a:pt x="1993" y="1140"/>
                </a:lnTo>
                <a:lnTo>
                  <a:pt x="2192" y="1084"/>
                </a:lnTo>
                <a:lnTo>
                  <a:pt x="2392" y="1084"/>
                </a:lnTo>
                <a:lnTo>
                  <a:pt x="2591" y="999"/>
                </a:lnTo>
                <a:lnTo>
                  <a:pt x="2790" y="667"/>
                </a:lnTo>
                <a:lnTo>
                  <a:pt x="2989" y="667"/>
                </a:lnTo>
                <a:lnTo>
                  <a:pt x="3188" y="336"/>
                </a:lnTo>
                <a:lnTo>
                  <a:pt x="3388" y="336"/>
                </a:lnTo>
                <a:lnTo>
                  <a:pt x="3587" y="4"/>
                </a:lnTo>
                <a:lnTo>
                  <a:pt x="3790" y="0"/>
                </a:ln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22860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osible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scubrimientos adicionales con mercado de e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xpor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380680" y="4502880"/>
            <a:ext cx="1732680" cy="547560"/>
            <a:chOff x="2380680" y="4502880"/>
            <a:chExt cx="1732680" cy="547560"/>
          </a:xfrm>
        </p:grpSpPr>
        <p:sp>
          <p:nvSpPr>
            <p:cNvPr id="596" name=""/>
            <p:cNvSpPr/>
            <p:nvPr/>
          </p:nvSpPr>
          <p:spPr>
            <a:xfrm>
              <a:off x="3035160" y="4745160"/>
              <a:ext cx="1078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Cashiri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707600">
              <a:off x="2360520" y="464796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883960" y="4121640"/>
            <a:ext cx="1715040" cy="507960"/>
            <a:chOff x="2883960" y="4121640"/>
            <a:chExt cx="1715040" cy="507960"/>
          </a:xfrm>
        </p:grpSpPr>
        <p:sp>
          <p:nvSpPr>
            <p:cNvPr id="599" name=""/>
            <p:cNvSpPr/>
            <p:nvPr/>
          </p:nvSpPr>
          <p:spPr>
            <a:xfrm rot="1707600">
              <a:off x="2863800" y="426672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78760" y="4324320"/>
              <a:ext cx="102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Pagore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179520" y="3851640"/>
            <a:ext cx="1514880" cy="339840"/>
            <a:chOff x="3179520" y="3851640"/>
            <a:chExt cx="1514880" cy="339840"/>
          </a:xfrm>
        </p:grpSpPr>
        <p:sp>
          <p:nvSpPr>
            <p:cNvPr id="602" name=""/>
            <p:cNvSpPr/>
            <p:nvPr/>
          </p:nvSpPr>
          <p:spPr>
            <a:xfrm rot="1001400">
              <a:off x="3177720" y="3940200"/>
              <a:ext cx="628920" cy="81000"/>
            </a:xfrm>
            <a:prstGeom prst="leftArrow">
              <a:avLst>
                <a:gd name="adj1" fmla="val 100000"/>
                <a:gd name="adj2" fmla="val 7764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44800" y="3886200"/>
              <a:ext cx="84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Lote 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045160" y="5268600"/>
            <a:ext cx="2718000" cy="338760"/>
            <a:chOff x="2045160" y="5268600"/>
            <a:chExt cx="2718000" cy="338760"/>
          </a:xfrm>
        </p:grpSpPr>
        <p:sp>
          <p:nvSpPr>
            <p:cNvPr id="605" name=""/>
            <p:cNvSpPr/>
            <p:nvPr/>
          </p:nvSpPr>
          <p:spPr>
            <a:xfrm rot="732000">
              <a:off x="2045880" y="5334120"/>
              <a:ext cx="628560" cy="74520"/>
            </a:xfrm>
            <a:prstGeom prst="leftArrow">
              <a:avLst>
                <a:gd name="adj1" fmla="val 100000"/>
                <a:gd name="adj2" fmla="val 84347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13400" y="5302080"/>
              <a:ext cx="194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San Martin</a:t>
              </a: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 (I y I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952880" y="3809880"/>
            <a:ext cx="3894120" cy="140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6 Pozos perfo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 Descub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83 % Ex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76360" y="1555920"/>
            <a:ext cx="4753080" cy="10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Arial"/>
              </a:rPr>
              <a:t>Perupetro ha negociado nuevos lotes en el área: 56, 57, 58, 76, 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38BC-7D1F-4A06-ACE0-7DE26CF62F3A}" type="slidenum">
              <a:t>21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aso boliviano / Reserv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33520" y="60958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nte: YPFB Abril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838080" y="990720"/>
          <a:ext cx="74678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4678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2286000" y="2984400"/>
            <a:ext cx="1676520" cy="1170360"/>
          </a:xfrm>
          <a:prstGeom prst="wedgeEllipseCallout">
            <a:avLst>
              <a:gd name="adj1" fmla="val -46310"/>
              <a:gd name="adj2" fmla="val 745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Firma del contrato con Bra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657600" y="12952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Inversión comprometida  en Exploración hasta el 2003: 1,676 MMUS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3086A-7D61-4BF2-BC2C-0F1E1A1338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37960" y="237960"/>
            <a:ext cx="76471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ronograma del Proyecto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00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08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4328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2209680"/>
            <a:ext cx="1371600" cy="713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80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209680"/>
            <a:ext cx="10098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92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55627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000000"/>
          </a:solidFill>
          <a:ln w="57240">
            <a:solidFill>
              <a:srgbClr val="ff3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19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27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35280" y="2209680"/>
            <a:ext cx="965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05480" y="2209680"/>
            <a:ext cx="97452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80000" y="2209680"/>
            <a:ext cx="98424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88000" y="2209680"/>
            <a:ext cx="992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588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2209680"/>
            <a:ext cx="1219320" cy="63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3065400"/>
            <a:ext cx="3962520" cy="66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IA, Permisos, Acuerdos Comerciales, Re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Lote 5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4013280"/>
            <a:ext cx="3962520" cy="55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rcadeo, Financiación, Licitación E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96360" y="2205000"/>
            <a:ext cx="992160" cy="327492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0" y="4869000"/>
            <a:ext cx="3529080" cy="34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18320" y="1603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8342-F0EB-4335-B3B8-64C1FB0C2D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>
            <a:hlinkClick r:id="rId1"/>
          </p:cNvPr>
          <p:cNvSpPr/>
          <p:nvPr/>
        </p:nvSpPr>
        <p:spPr>
          <a:xfrm>
            <a:off x="250920" y="47628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00"/>
                </a:solidFill>
                <a:latin typeface="Arial"/>
              </a:rPr>
              <a:t>Beneficios para el Perú al Exportar G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Fuente de trabajos (35,000 puestos directos e indire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versión de US$ 2,50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Nuevos ingres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Revierte déficit de la balanza comercial de hidrocarb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centivo para mayores explo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5DEF9-087D-4D75-88BA-07BA4BC3A18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>
            <a:hlinkClick r:id="rId1"/>
          </p:cNvPr>
          <p:cNvSpPr/>
          <p:nvPr/>
        </p:nvSpPr>
        <p:spPr>
          <a:xfrm>
            <a:off x="228600" y="22860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cuenta con las reservas necesarias para desarrollar un proyecto de expor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es la fuente más cercana de abastecimiento para Norteamérica y Chi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s un proyecto prioritario para la economía y gobierno peru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43DEC-6B82-4632-817C-0A06CACB485B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57200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ROPIEDADES FÍS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ás ligero que el 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c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sa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tóx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rim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fla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816520" y="1676520"/>
            <a:ext cx="2692080" cy="4038120"/>
            <a:chOff x="5816520" y="1676520"/>
            <a:chExt cx="2692080" cy="4038120"/>
          </a:xfrm>
        </p:grpSpPr>
        <p:sp>
          <p:nvSpPr>
            <p:cNvPr id="63" name=""/>
            <p:cNvSpPr/>
            <p:nvPr/>
          </p:nvSpPr>
          <p:spPr>
            <a:xfrm>
              <a:off x="5816520" y="1676520"/>
              <a:ext cx="2692080" cy="40381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32000" y="1690920"/>
              <a:ext cx="2664360" cy="401220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</p:grpSp>
      <p:sp>
        <p:nvSpPr>
          <p:cNvPr id="65" name=""/>
          <p:cNvSpPr/>
          <p:nvPr/>
        </p:nvSpPr>
        <p:spPr>
          <a:xfrm>
            <a:off x="537840" y="411120"/>
            <a:ext cx="5712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piedades del Gas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00AB0-CCBA-4246-9AEB-1CF8D50B735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¿Qué es el LNG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mismo gas natural, pero en estado líqu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gas natural reduce su volumen en 600 veces al convertirse en L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convertir el gas natural en líquido hay que enfríarlo a menos 160 °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AB07-7620-4C6F-A7DD-8330D80D44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7640" y="253692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03600" y="20080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765000"/>
            <a:ext cx="9144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00880" y="5457960"/>
            <a:ext cx="30240" cy="190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cubicBezTo>
                  <a:pt x="6" y="4"/>
                  <a:pt x="18" y="12"/>
                  <a:pt x="18" y="12"/>
                </a:cubicBezTo>
                <a:cubicBezTo>
                  <a:pt x="18" y="12"/>
                  <a:pt x="6" y="4"/>
                  <a:pt x="0" y="0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26640" bIns="-26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5600" y="5051520"/>
            <a:ext cx="124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30280" y="1006560"/>
            <a:ext cx="6037200" cy="5065560"/>
          </a:xfrm>
          <a:prstGeom prst="rect">
            <a:avLst/>
          </a:prstGeom>
          <a:solidFill>
            <a:srgbClr val="ccecff"/>
          </a:solidFill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1036800"/>
            <a:ext cx="4456080" cy="5000400"/>
          </a:xfrm>
          <a:custGeom>
            <a:avLst/>
            <a:gdLst/>
            <a:ahLst/>
            <a:rect l="l" t="t" r="r" b="b"/>
            <a:pathLst>
              <a:path w="10259" h="16146">
                <a:moveTo>
                  <a:pt x="8516" y="16060"/>
                </a:moveTo>
                <a:lnTo>
                  <a:pt x="8483" y="16010"/>
                </a:lnTo>
                <a:lnTo>
                  <a:pt x="8403" y="15985"/>
                </a:lnTo>
                <a:lnTo>
                  <a:pt x="8360" y="15911"/>
                </a:lnTo>
                <a:lnTo>
                  <a:pt x="8304" y="15860"/>
                </a:lnTo>
                <a:lnTo>
                  <a:pt x="8259" y="15823"/>
                </a:lnTo>
                <a:lnTo>
                  <a:pt x="8180" y="15760"/>
                </a:lnTo>
                <a:lnTo>
                  <a:pt x="8146" y="15712"/>
                </a:lnTo>
                <a:lnTo>
                  <a:pt x="8090" y="15637"/>
                </a:lnTo>
                <a:lnTo>
                  <a:pt x="7990" y="15611"/>
                </a:lnTo>
                <a:lnTo>
                  <a:pt x="7920" y="15525"/>
                </a:lnTo>
                <a:lnTo>
                  <a:pt x="7854" y="15474"/>
                </a:lnTo>
                <a:lnTo>
                  <a:pt x="7786" y="15461"/>
                </a:lnTo>
                <a:lnTo>
                  <a:pt x="7777" y="15349"/>
                </a:lnTo>
                <a:lnTo>
                  <a:pt x="7768" y="15239"/>
                </a:lnTo>
                <a:lnTo>
                  <a:pt x="7700" y="15139"/>
                </a:lnTo>
                <a:lnTo>
                  <a:pt x="7655" y="15091"/>
                </a:lnTo>
                <a:lnTo>
                  <a:pt x="7589" y="15052"/>
                </a:lnTo>
                <a:lnTo>
                  <a:pt x="7452" y="14988"/>
                </a:lnTo>
                <a:lnTo>
                  <a:pt x="7351" y="14889"/>
                </a:lnTo>
                <a:lnTo>
                  <a:pt x="7260" y="14875"/>
                </a:lnTo>
                <a:lnTo>
                  <a:pt x="7171" y="14813"/>
                </a:lnTo>
                <a:lnTo>
                  <a:pt x="7059" y="14664"/>
                </a:lnTo>
                <a:lnTo>
                  <a:pt x="7014" y="14591"/>
                </a:lnTo>
                <a:lnTo>
                  <a:pt x="6946" y="14563"/>
                </a:lnTo>
                <a:lnTo>
                  <a:pt x="6844" y="14550"/>
                </a:lnTo>
                <a:lnTo>
                  <a:pt x="6741" y="14536"/>
                </a:lnTo>
                <a:lnTo>
                  <a:pt x="6652" y="14461"/>
                </a:lnTo>
                <a:lnTo>
                  <a:pt x="6596" y="14386"/>
                </a:lnTo>
                <a:lnTo>
                  <a:pt x="6527" y="14384"/>
                </a:lnTo>
                <a:lnTo>
                  <a:pt x="6426" y="14321"/>
                </a:lnTo>
                <a:lnTo>
                  <a:pt x="6359" y="14296"/>
                </a:lnTo>
                <a:lnTo>
                  <a:pt x="6190" y="14170"/>
                </a:lnTo>
                <a:lnTo>
                  <a:pt x="6064" y="14157"/>
                </a:lnTo>
                <a:lnTo>
                  <a:pt x="5997" y="14107"/>
                </a:lnTo>
                <a:lnTo>
                  <a:pt x="5829" y="13970"/>
                </a:lnTo>
                <a:lnTo>
                  <a:pt x="5728" y="13895"/>
                </a:lnTo>
                <a:lnTo>
                  <a:pt x="5615" y="13806"/>
                </a:lnTo>
                <a:lnTo>
                  <a:pt x="5523" y="13804"/>
                </a:lnTo>
                <a:lnTo>
                  <a:pt x="5468" y="13754"/>
                </a:lnTo>
                <a:lnTo>
                  <a:pt x="5344" y="13643"/>
                </a:lnTo>
                <a:lnTo>
                  <a:pt x="5276" y="13604"/>
                </a:lnTo>
                <a:lnTo>
                  <a:pt x="5162" y="13553"/>
                </a:lnTo>
                <a:lnTo>
                  <a:pt x="5062" y="13490"/>
                </a:lnTo>
                <a:lnTo>
                  <a:pt x="4938" y="13402"/>
                </a:lnTo>
                <a:lnTo>
                  <a:pt x="4871" y="13291"/>
                </a:lnTo>
                <a:lnTo>
                  <a:pt x="4827" y="13205"/>
                </a:lnTo>
                <a:lnTo>
                  <a:pt x="4783" y="13180"/>
                </a:lnTo>
                <a:lnTo>
                  <a:pt x="4693" y="13056"/>
                </a:lnTo>
                <a:lnTo>
                  <a:pt x="4626" y="12957"/>
                </a:lnTo>
                <a:lnTo>
                  <a:pt x="4558" y="12918"/>
                </a:lnTo>
                <a:lnTo>
                  <a:pt x="4480" y="12867"/>
                </a:lnTo>
                <a:lnTo>
                  <a:pt x="4335" y="12730"/>
                </a:lnTo>
                <a:lnTo>
                  <a:pt x="4280" y="12584"/>
                </a:lnTo>
                <a:lnTo>
                  <a:pt x="4212" y="12533"/>
                </a:lnTo>
                <a:lnTo>
                  <a:pt x="4178" y="12496"/>
                </a:lnTo>
                <a:lnTo>
                  <a:pt x="4201" y="12461"/>
                </a:lnTo>
                <a:lnTo>
                  <a:pt x="4144" y="12435"/>
                </a:lnTo>
                <a:lnTo>
                  <a:pt x="4145" y="12398"/>
                </a:lnTo>
                <a:lnTo>
                  <a:pt x="4101" y="12372"/>
                </a:lnTo>
                <a:lnTo>
                  <a:pt x="4057" y="12322"/>
                </a:lnTo>
                <a:lnTo>
                  <a:pt x="4069" y="12250"/>
                </a:lnTo>
                <a:lnTo>
                  <a:pt x="4059" y="12177"/>
                </a:lnTo>
                <a:lnTo>
                  <a:pt x="4013" y="12139"/>
                </a:lnTo>
                <a:lnTo>
                  <a:pt x="3957" y="12114"/>
                </a:lnTo>
                <a:lnTo>
                  <a:pt x="3946" y="12039"/>
                </a:lnTo>
                <a:lnTo>
                  <a:pt x="3981" y="12003"/>
                </a:lnTo>
                <a:lnTo>
                  <a:pt x="4015" y="12003"/>
                </a:lnTo>
                <a:lnTo>
                  <a:pt x="4038" y="12029"/>
                </a:lnTo>
                <a:lnTo>
                  <a:pt x="4059" y="12066"/>
                </a:lnTo>
                <a:lnTo>
                  <a:pt x="4082" y="12054"/>
                </a:lnTo>
                <a:lnTo>
                  <a:pt x="4098" y="11835"/>
                </a:lnTo>
                <a:lnTo>
                  <a:pt x="4100" y="11689"/>
                </a:lnTo>
                <a:lnTo>
                  <a:pt x="4057" y="11588"/>
                </a:lnTo>
                <a:lnTo>
                  <a:pt x="3966" y="11489"/>
                </a:lnTo>
                <a:lnTo>
                  <a:pt x="3900" y="11378"/>
                </a:lnTo>
                <a:lnTo>
                  <a:pt x="3879" y="11305"/>
                </a:lnTo>
                <a:lnTo>
                  <a:pt x="3858" y="11219"/>
                </a:lnTo>
                <a:lnTo>
                  <a:pt x="3768" y="11095"/>
                </a:lnTo>
                <a:lnTo>
                  <a:pt x="3714" y="10972"/>
                </a:lnTo>
                <a:lnTo>
                  <a:pt x="3658" y="10923"/>
                </a:lnTo>
                <a:lnTo>
                  <a:pt x="3659" y="10848"/>
                </a:lnTo>
                <a:lnTo>
                  <a:pt x="3625" y="10786"/>
                </a:lnTo>
                <a:lnTo>
                  <a:pt x="3558" y="10700"/>
                </a:lnTo>
                <a:lnTo>
                  <a:pt x="3480" y="10638"/>
                </a:lnTo>
                <a:lnTo>
                  <a:pt x="3446" y="10575"/>
                </a:lnTo>
                <a:lnTo>
                  <a:pt x="3413" y="10552"/>
                </a:lnTo>
                <a:lnTo>
                  <a:pt x="3378" y="10538"/>
                </a:lnTo>
                <a:lnTo>
                  <a:pt x="3369" y="10464"/>
                </a:lnTo>
                <a:lnTo>
                  <a:pt x="3359" y="10330"/>
                </a:lnTo>
                <a:lnTo>
                  <a:pt x="3316" y="10208"/>
                </a:lnTo>
                <a:lnTo>
                  <a:pt x="3228" y="10072"/>
                </a:lnTo>
                <a:lnTo>
                  <a:pt x="3148" y="9959"/>
                </a:lnTo>
                <a:lnTo>
                  <a:pt x="3070" y="9885"/>
                </a:lnTo>
                <a:lnTo>
                  <a:pt x="2958" y="9810"/>
                </a:lnTo>
                <a:lnTo>
                  <a:pt x="2984" y="9700"/>
                </a:lnTo>
                <a:lnTo>
                  <a:pt x="2984" y="9628"/>
                </a:lnTo>
                <a:lnTo>
                  <a:pt x="2894" y="9515"/>
                </a:lnTo>
                <a:lnTo>
                  <a:pt x="2808" y="9306"/>
                </a:lnTo>
                <a:lnTo>
                  <a:pt x="2707" y="9156"/>
                </a:lnTo>
                <a:lnTo>
                  <a:pt x="2608" y="8959"/>
                </a:lnTo>
                <a:lnTo>
                  <a:pt x="2553" y="8776"/>
                </a:lnTo>
                <a:lnTo>
                  <a:pt x="2489" y="8518"/>
                </a:lnTo>
                <a:lnTo>
                  <a:pt x="2366" y="8356"/>
                </a:lnTo>
                <a:lnTo>
                  <a:pt x="2379" y="8283"/>
                </a:lnTo>
                <a:lnTo>
                  <a:pt x="2358" y="8197"/>
                </a:lnTo>
                <a:lnTo>
                  <a:pt x="2302" y="8123"/>
                </a:lnTo>
                <a:lnTo>
                  <a:pt x="2293" y="8061"/>
                </a:lnTo>
                <a:lnTo>
                  <a:pt x="2236" y="8012"/>
                </a:lnTo>
                <a:lnTo>
                  <a:pt x="2214" y="7914"/>
                </a:lnTo>
                <a:lnTo>
                  <a:pt x="2116" y="7716"/>
                </a:lnTo>
                <a:lnTo>
                  <a:pt x="2105" y="7667"/>
                </a:lnTo>
                <a:lnTo>
                  <a:pt x="2107" y="7569"/>
                </a:lnTo>
                <a:lnTo>
                  <a:pt x="2052" y="7458"/>
                </a:lnTo>
                <a:lnTo>
                  <a:pt x="1908" y="7200"/>
                </a:lnTo>
                <a:lnTo>
                  <a:pt x="1751" y="7050"/>
                </a:lnTo>
                <a:lnTo>
                  <a:pt x="1650" y="6950"/>
                </a:lnTo>
                <a:lnTo>
                  <a:pt x="1538" y="6801"/>
                </a:lnTo>
                <a:lnTo>
                  <a:pt x="1462" y="6640"/>
                </a:lnTo>
                <a:lnTo>
                  <a:pt x="1341" y="6333"/>
                </a:lnTo>
                <a:lnTo>
                  <a:pt x="1220" y="6063"/>
                </a:lnTo>
                <a:lnTo>
                  <a:pt x="1074" y="5900"/>
                </a:lnTo>
                <a:lnTo>
                  <a:pt x="849" y="5725"/>
                </a:lnTo>
                <a:lnTo>
                  <a:pt x="714" y="5710"/>
                </a:lnTo>
                <a:lnTo>
                  <a:pt x="578" y="5597"/>
                </a:lnTo>
                <a:lnTo>
                  <a:pt x="409" y="5521"/>
                </a:lnTo>
                <a:lnTo>
                  <a:pt x="330" y="5459"/>
                </a:lnTo>
                <a:lnTo>
                  <a:pt x="217" y="5433"/>
                </a:lnTo>
                <a:lnTo>
                  <a:pt x="126" y="5357"/>
                </a:lnTo>
                <a:lnTo>
                  <a:pt x="128" y="5260"/>
                </a:lnTo>
                <a:lnTo>
                  <a:pt x="187" y="5162"/>
                </a:lnTo>
                <a:lnTo>
                  <a:pt x="244" y="5176"/>
                </a:lnTo>
                <a:lnTo>
                  <a:pt x="311" y="5177"/>
                </a:lnTo>
                <a:lnTo>
                  <a:pt x="358" y="5130"/>
                </a:lnTo>
                <a:lnTo>
                  <a:pt x="394" y="5056"/>
                </a:lnTo>
                <a:lnTo>
                  <a:pt x="397" y="4837"/>
                </a:lnTo>
                <a:lnTo>
                  <a:pt x="303" y="4695"/>
                </a:lnTo>
                <a:lnTo>
                  <a:pt x="227" y="4648"/>
                </a:lnTo>
                <a:lnTo>
                  <a:pt x="163" y="4625"/>
                </a:lnTo>
                <a:lnTo>
                  <a:pt x="125" y="4561"/>
                </a:lnTo>
                <a:lnTo>
                  <a:pt x="146" y="4515"/>
                </a:lnTo>
                <a:lnTo>
                  <a:pt x="163" y="4434"/>
                </a:lnTo>
                <a:lnTo>
                  <a:pt x="174" y="4370"/>
                </a:lnTo>
                <a:lnTo>
                  <a:pt x="146" y="4307"/>
                </a:lnTo>
                <a:lnTo>
                  <a:pt x="104" y="4272"/>
                </a:lnTo>
                <a:lnTo>
                  <a:pt x="49" y="4197"/>
                </a:lnTo>
                <a:lnTo>
                  <a:pt x="17" y="4116"/>
                </a:lnTo>
                <a:lnTo>
                  <a:pt x="0" y="4046"/>
                </a:lnTo>
                <a:lnTo>
                  <a:pt x="0" y="3994"/>
                </a:lnTo>
                <a:lnTo>
                  <a:pt x="12" y="3949"/>
                </a:lnTo>
                <a:lnTo>
                  <a:pt x="17" y="3897"/>
                </a:lnTo>
                <a:lnTo>
                  <a:pt x="33" y="3844"/>
                </a:lnTo>
                <a:lnTo>
                  <a:pt x="60" y="3792"/>
                </a:lnTo>
                <a:lnTo>
                  <a:pt x="82" y="3752"/>
                </a:lnTo>
                <a:lnTo>
                  <a:pt x="109" y="3717"/>
                </a:lnTo>
                <a:lnTo>
                  <a:pt x="135" y="3677"/>
                </a:lnTo>
                <a:lnTo>
                  <a:pt x="163" y="3653"/>
                </a:lnTo>
                <a:lnTo>
                  <a:pt x="189" y="3625"/>
                </a:lnTo>
                <a:lnTo>
                  <a:pt x="211" y="3602"/>
                </a:lnTo>
                <a:lnTo>
                  <a:pt x="265" y="3537"/>
                </a:lnTo>
                <a:lnTo>
                  <a:pt x="313" y="3520"/>
                </a:lnTo>
                <a:lnTo>
                  <a:pt x="352" y="3451"/>
                </a:lnTo>
                <a:lnTo>
                  <a:pt x="367" y="3377"/>
                </a:lnTo>
                <a:lnTo>
                  <a:pt x="426" y="3324"/>
                </a:lnTo>
                <a:lnTo>
                  <a:pt x="508" y="3294"/>
                </a:lnTo>
                <a:lnTo>
                  <a:pt x="567" y="3219"/>
                </a:lnTo>
                <a:lnTo>
                  <a:pt x="610" y="3191"/>
                </a:lnTo>
                <a:lnTo>
                  <a:pt x="647" y="3138"/>
                </a:lnTo>
                <a:lnTo>
                  <a:pt x="702" y="3127"/>
                </a:lnTo>
                <a:lnTo>
                  <a:pt x="756" y="3098"/>
                </a:lnTo>
                <a:lnTo>
                  <a:pt x="799" y="3080"/>
                </a:lnTo>
                <a:lnTo>
                  <a:pt x="870" y="3086"/>
                </a:lnTo>
                <a:lnTo>
                  <a:pt x="903" y="3111"/>
                </a:lnTo>
                <a:lnTo>
                  <a:pt x="915" y="3100"/>
                </a:lnTo>
                <a:lnTo>
                  <a:pt x="1254" y="3203"/>
                </a:lnTo>
                <a:lnTo>
                  <a:pt x="4229" y="1097"/>
                </a:lnTo>
                <a:lnTo>
                  <a:pt x="4384" y="0"/>
                </a:lnTo>
                <a:lnTo>
                  <a:pt x="9689" y="1492"/>
                </a:lnTo>
                <a:lnTo>
                  <a:pt x="9607" y="9312"/>
                </a:lnTo>
                <a:lnTo>
                  <a:pt x="10259" y="11181"/>
                </a:lnTo>
                <a:lnTo>
                  <a:pt x="9973" y="14892"/>
                </a:lnTo>
                <a:lnTo>
                  <a:pt x="8995" y="16146"/>
                </a:lnTo>
                <a:lnTo>
                  <a:pt x="8995" y="16146"/>
                </a:lnTo>
                <a:lnTo>
                  <a:pt x="8516" y="160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05120" y="1006560"/>
            <a:ext cx="4392720" cy="5075280"/>
          </a:xfrm>
          <a:custGeom>
            <a:avLst/>
            <a:gdLst/>
            <a:ahLst/>
            <a:rect l="l" t="t" r="r" b="b"/>
            <a:pathLst>
              <a:path w="10114" h="16388">
                <a:moveTo>
                  <a:pt x="760" y="0"/>
                </a:moveTo>
                <a:lnTo>
                  <a:pt x="739" y="130"/>
                </a:lnTo>
                <a:lnTo>
                  <a:pt x="692" y="251"/>
                </a:lnTo>
                <a:lnTo>
                  <a:pt x="644" y="360"/>
                </a:lnTo>
                <a:lnTo>
                  <a:pt x="564" y="408"/>
                </a:lnTo>
                <a:lnTo>
                  <a:pt x="495" y="491"/>
                </a:lnTo>
                <a:lnTo>
                  <a:pt x="436" y="589"/>
                </a:lnTo>
                <a:lnTo>
                  <a:pt x="423" y="626"/>
                </a:lnTo>
                <a:lnTo>
                  <a:pt x="435" y="687"/>
                </a:lnTo>
                <a:lnTo>
                  <a:pt x="479" y="700"/>
                </a:lnTo>
                <a:lnTo>
                  <a:pt x="478" y="761"/>
                </a:lnTo>
                <a:lnTo>
                  <a:pt x="501" y="773"/>
                </a:lnTo>
                <a:lnTo>
                  <a:pt x="558" y="798"/>
                </a:lnTo>
                <a:lnTo>
                  <a:pt x="591" y="848"/>
                </a:lnTo>
                <a:lnTo>
                  <a:pt x="579" y="873"/>
                </a:lnTo>
                <a:lnTo>
                  <a:pt x="512" y="870"/>
                </a:lnTo>
                <a:lnTo>
                  <a:pt x="455" y="846"/>
                </a:lnTo>
                <a:lnTo>
                  <a:pt x="419" y="883"/>
                </a:lnTo>
                <a:lnTo>
                  <a:pt x="407" y="966"/>
                </a:lnTo>
                <a:lnTo>
                  <a:pt x="360" y="1053"/>
                </a:lnTo>
                <a:lnTo>
                  <a:pt x="326" y="1099"/>
                </a:lnTo>
                <a:lnTo>
                  <a:pt x="234" y="1097"/>
                </a:lnTo>
                <a:lnTo>
                  <a:pt x="165" y="1096"/>
                </a:lnTo>
                <a:lnTo>
                  <a:pt x="96" y="1145"/>
                </a:lnTo>
                <a:lnTo>
                  <a:pt x="83" y="1217"/>
                </a:lnTo>
                <a:lnTo>
                  <a:pt x="106" y="1278"/>
                </a:lnTo>
                <a:lnTo>
                  <a:pt x="150" y="1317"/>
                </a:lnTo>
                <a:lnTo>
                  <a:pt x="196" y="1390"/>
                </a:lnTo>
                <a:lnTo>
                  <a:pt x="182" y="1488"/>
                </a:lnTo>
                <a:lnTo>
                  <a:pt x="146" y="1573"/>
                </a:lnTo>
                <a:lnTo>
                  <a:pt x="113" y="1634"/>
                </a:lnTo>
                <a:lnTo>
                  <a:pt x="145" y="1671"/>
                </a:lnTo>
                <a:lnTo>
                  <a:pt x="132" y="1768"/>
                </a:lnTo>
                <a:lnTo>
                  <a:pt x="188" y="1829"/>
                </a:lnTo>
                <a:lnTo>
                  <a:pt x="232" y="1917"/>
                </a:lnTo>
                <a:lnTo>
                  <a:pt x="209" y="1978"/>
                </a:lnTo>
                <a:lnTo>
                  <a:pt x="185" y="2026"/>
                </a:lnTo>
                <a:lnTo>
                  <a:pt x="230" y="2075"/>
                </a:lnTo>
                <a:lnTo>
                  <a:pt x="241" y="2112"/>
                </a:lnTo>
                <a:lnTo>
                  <a:pt x="206" y="2124"/>
                </a:lnTo>
                <a:lnTo>
                  <a:pt x="172" y="2136"/>
                </a:lnTo>
                <a:lnTo>
                  <a:pt x="159" y="2196"/>
                </a:lnTo>
                <a:lnTo>
                  <a:pt x="125" y="2196"/>
                </a:lnTo>
                <a:lnTo>
                  <a:pt x="57" y="2182"/>
                </a:lnTo>
                <a:lnTo>
                  <a:pt x="11" y="2157"/>
                </a:lnTo>
                <a:lnTo>
                  <a:pt x="0" y="2206"/>
                </a:lnTo>
                <a:lnTo>
                  <a:pt x="56" y="2292"/>
                </a:lnTo>
                <a:lnTo>
                  <a:pt x="113" y="2331"/>
                </a:lnTo>
                <a:lnTo>
                  <a:pt x="213" y="2357"/>
                </a:lnTo>
                <a:lnTo>
                  <a:pt x="293" y="2382"/>
                </a:lnTo>
                <a:lnTo>
                  <a:pt x="349" y="2469"/>
                </a:lnTo>
                <a:lnTo>
                  <a:pt x="371" y="2530"/>
                </a:lnTo>
                <a:lnTo>
                  <a:pt x="427" y="2580"/>
                </a:lnTo>
                <a:lnTo>
                  <a:pt x="516" y="2583"/>
                </a:lnTo>
                <a:lnTo>
                  <a:pt x="573" y="2607"/>
                </a:lnTo>
                <a:lnTo>
                  <a:pt x="607" y="2657"/>
                </a:lnTo>
                <a:lnTo>
                  <a:pt x="629" y="2681"/>
                </a:lnTo>
                <a:lnTo>
                  <a:pt x="642" y="2657"/>
                </a:lnTo>
                <a:lnTo>
                  <a:pt x="619" y="2585"/>
                </a:lnTo>
                <a:lnTo>
                  <a:pt x="632" y="2536"/>
                </a:lnTo>
                <a:lnTo>
                  <a:pt x="633" y="2449"/>
                </a:lnTo>
                <a:lnTo>
                  <a:pt x="691" y="2389"/>
                </a:lnTo>
                <a:lnTo>
                  <a:pt x="783" y="2343"/>
                </a:lnTo>
                <a:lnTo>
                  <a:pt x="806" y="2307"/>
                </a:lnTo>
                <a:lnTo>
                  <a:pt x="818" y="2246"/>
                </a:lnTo>
                <a:lnTo>
                  <a:pt x="854" y="2222"/>
                </a:lnTo>
                <a:lnTo>
                  <a:pt x="899" y="2210"/>
                </a:lnTo>
                <a:lnTo>
                  <a:pt x="911" y="2174"/>
                </a:lnTo>
                <a:lnTo>
                  <a:pt x="934" y="2137"/>
                </a:lnTo>
                <a:lnTo>
                  <a:pt x="969" y="2198"/>
                </a:lnTo>
                <a:lnTo>
                  <a:pt x="955" y="2309"/>
                </a:lnTo>
                <a:lnTo>
                  <a:pt x="977" y="2359"/>
                </a:lnTo>
                <a:lnTo>
                  <a:pt x="976" y="2383"/>
                </a:lnTo>
                <a:lnTo>
                  <a:pt x="975" y="2444"/>
                </a:lnTo>
                <a:lnTo>
                  <a:pt x="1010" y="2482"/>
                </a:lnTo>
                <a:lnTo>
                  <a:pt x="1042" y="2482"/>
                </a:lnTo>
                <a:lnTo>
                  <a:pt x="1031" y="2505"/>
                </a:lnTo>
                <a:lnTo>
                  <a:pt x="1063" y="2544"/>
                </a:lnTo>
                <a:lnTo>
                  <a:pt x="1041" y="2579"/>
                </a:lnTo>
                <a:lnTo>
                  <a:pt x="995" y="2639"/>
                </a:lnTo>
                <a:lnTo>
                  <a:pt x="959" y="2737"/>
                </a:lnTo>
                <a:lnTo>
                  <a:pt x="934" y="2847"/>
                </a:lnTo>
                <a:lnTo>
                  <a:pt x="911" y="2930"/>
                </a:lnTo>
                <a:lnTo>
                  <a:pt x="910" y="2992"/>
                </a:lnTo>
                <a:lnTo>
                  <a:pt x="875" y="3029"/>
                </a:lnTo>
                <a:lnTo>
                  <a:pt x="840" y="3051"/>
                </a:lnTo>
                <a:lnTo>
                  <a:pt x="817" y="3089"/>
                </a:lnTo>
                <a:lnTo>
                  <a:pt x="817" y="3162"/>
                </a:lnTo>
                <a:lnTo>
                  <a:pt x="815" y="3247"/>
                </a:lnTo>
                <a:lnTo>
                  <a:pt x="735" y="3245"/>
                </a:lnTo>
                <a:lnTo>
                  <a:pt x="677" y="3245"/>
                </a:lnTo>
                <a:lnTo>
                  <a:pt x="654" y="3281"/>
                </a:lnTo>
                <a:lnTo>
                  <a:pt x="641" y="3391"/>
                </a:lnTo>
                <a:lnTo>
                  <a:pt x="653" y="3427"/>
                </a:lnTo>
                <a:lnTo>
                  <a:pt x="640" y="3477"/>
                </a:lnTo>
                <a:lnTo>
                  <a:pt x="662" y="3527"/>
                </a:lnTo>
                <a:lnTo>
                  <a:pt x="696" y="3575"/>
                </a:lnTo>
                <a:lnTo>
                  <a:pt x="694" y="3660"/>
                </a:lnTo>
                <a:lnTo>
                  <a:pt x="658" y="3697"/>
                </a:lnTo>
                <a:lnTo>
                  <a:pt x="612" y="3731"/>
                </a:lnTo>
                <a:lnTo>
                  <a:pt x="533" y="3730"/>
                </a:lnTo>
                <a:lnTo>
                  <a:pt x="487" y="3705"/>
                </a:lnTo>
                <a:lnTo>
                  <a:pt x="443" y="3705"/>
                </a:lnTo>
                <a:lnTo>
                  <a:pt x="408" y="3691"/>
                </a:lnTo>
                <a:lnTo>
                  <a:pt x="360" y="3752"/>
                </a:lnTo>
                <a:lnTo>
                  <a:pt x="407" y="3753"/>
                </a:lnTo>
                <a:lnTo>
                  <a:pt x="429" y="3778"/>
                </a:lnTo>
                <a:lnTo>
                  <a:pt x="417" y="3851"/>
                </a:lnTo>
                <a:lnTo>
                  <a:pt x="441" y="3864"/>
                </a:lnTo>
                <a:lnTo>
                  <a:pt x="473" y="3889"/>
                </a:lnTo>
                <a:lnTo>
                  <a:pt x="484" y="3950"/>
                </a:lnTo>
                <a:lnTo>
                  <a:pt x="459" y="4034"/>
                </a:lnTo>
                <a:lnTo>
                  <a:pt x="458" y="4095"/>
                </a:lnTo>
                <a:lnTo>
                  <a:pt x="480" y="4109"/>
                </a:lnTo>
                <a:lnTo>
                  <a:pt x="526" y="4134"/>
                </a:lnTo>
                <a:lnTo>
                  <a:pt x="572" y="4098"/>
                </a:lnTo>
                <a:lnTo>
                  <a:pt x="654" y="4027"/>
                </a:lnTo>
                <a:lnTo>
                  <a:pt x="711" y="4004"/>
                </a:lnTo>
                <a:lnTo>
                  <a:pt x="768" y="4017"/>
                </a:lnTo>
                <a:lnTo>
                  <a:pt x="790" y="4054"/>
                </a:lnTo>
                <a:lnTo>
                  <a:pt x="869" y="4079"/>
                </a:lnTo>
                <a:lnTo>
                  <a:pt x="925" y="4141"/>
                </a:lnTo>
                <a:lnTo>
                  <a:pt x="1016" y="4166"/>
                </a:lnTo>
                <a:lnTo>
                  <a:pt x="1096" y="4108"/>
                </a:lnTo>
                <a:lnTo>
                  <a:pt x="1131" y="4121"/>
                </a:lnTo>
                <a:lnTo>
                  <a:pt x="1187" y="4170"/>
                </a:lnTo>
                <a:lnTo>
                  <a:pt x="1253" y="4232"/>
                </a:lnTo>
                <a:lnTo>
                  <a:pt x="1253" y="4281"/>
                </a:lnTo>
                <a:lnTo>
                  <a:pt x="1287" y="4320"/>
                </a:lnTo>
                <a:lnTo>
                  <a:pt x="1319" y="4393"/>
                </a:lnTo>
                <a:lnTo>
                  <a:pt x="1319" y="4429"/>
                </a:lnTo>
                <a:lnTo>
                  <a:pt x="1353" y="4493"/>
                </a:lnTo>
                <a:lnTo>
                  <a:pt x="1465" y="4591"/>
                </a:lnTo>
                <a:lnTo>
                  <a:pt x="1554" y="4593"/>
                </a:lnTo>
                <a:lnTo>
                  <a:pt x="1647" y="4583"/>
                </a:lnTo>
                <a:lnTo>
                  <a:pt x="1647" y="4509"/>
                </a:lnTo>
                <a:lnTo>
                  <a:pt x="1694" y="4437"/>
                </a:lnTo>
                <a:lnTo>
                  <a:pt x="1695" y="4363"/>
                </a:lnTo>
                <a:lnTo>
                  <a:pt x="1905" y="4171"/>
                </a:lnTo>
                <a:lnTo>
                  <a:pt x="1895" y="4025"/>
                </a:lnTo>
                <a:lnTo>
                  <a:pt x="1952" y="3928"/>
                </a:lnTo>
                <a:lnTo>
                  <a:pt x="1956" y="3757"/>
                </a:lnTo>
                <a:lnTo>
                  <a:pt x="2036" y="3711"/>
                </a:lnTo>
                <a:lnTo>
                  <a:pt x="2073" y="3540"/>
                </a:lnTo>
                <a:lnTo>
                  <a:pt x="2142" y="3480"/>
                </a:lnTo>
                <a:lnTo>
                  <a:pt x="2131" y="3454"/>
                </a:lnTo>
                <a:lnTo>
                  <a:pt x="2087" y="3418"/>
                </a:lnTo>
                <a:lnTo>
                  <a:pt x="2090" y="3308"/>
                </a:lnTo>
                <a:lnTo>
                  <a:pt x="2113" y="3224"/>
                </a:lnTo>
                <a:lnTo>
                  <a:pt x="2170" y="3211"/>
                </a:lnTo>
                <a:lnTo>
                  <a:pt x="2215" y="3237"/>
                </a:lnTo>
                <a:lnTo>
                  <a:pt x="2236" y="3311"/>
                </a:lnTo>
                <a:lnTo>
                  <a:pt x="2282" y="3323"/>
                </a:lnTo>
                <a:lnTo>
                  <a:pt x="2284" y="3189"/>
                </a:lnTo>
                <a:lnTo>
                  <a:pt x="2343" y="3068"/>
                </a:lnTo>
                <a:lnTo>
                  <a:pt x="2482" y="2937"/>
                </a:lnTo>
                <a:lnTo>
                  <a:pt x="2562" y="2888"/>
                </a:lnTo>
                <a:lnTo>
                  <a:pt x="2688" y="2831"/>
                </a:lnTo>
                <a:lnTo>
                  <a:pt x="2963" y="2737"/>
                </a:lnTo>
                <a:lnTo>
                  <a:pt x="3238" y="2620"/>
                </a:lnTo>
                <a:lnTo>
                  <a:pt x="3410" y="2575"/>
                </a:lnTo>
                <a:lnTo>
                  <a:pt x="3560" y="2480"/>
                </a:lnTo>
                <a:lnTo>
                  <a:pt x="3687" y="2361"/>
                </a:lnTo>
                <a:lnTo>
                  <a:pt x="3801" y="2288"/>
                </a:lnTo>
                <a:lnTo>
                  <a:pt x="3940" y="2194"/>
                </a:lnTo>
                <a:lnTo>
                  <a:pt x="3998" y="2134"/>
                </a:lnTo>
                <a:lnTo>
                  <a:pt x="4116" y="1964"/>
                </a:lnTo>
                <a:lnTo>
                  <a:pt x="4244" y="1772"/>
                </a:lnTo>
                <a:lnTo>
                  <a:pt x="4372" y="1616"/>
                </a:lnTo>
                <a:lnTo>
                  <a:pt x="4418" y="1543"/>
                </a:lnTo>
                <a:lnTo>
                  <a:pt x="4385" y="1408"/>
                </a:lnTo>
                <a:lnTo>
                  <a:pt x="4446" y="1226"/>
                </a:lnTo>
                <a:lnTo>
                  <a:pt x="4515" y="1154"/>
                </a:lnTo>
                <a:lnTo>
                  <a:pt x="4583" y="1155"/>
                </a:lnTo>
                <a:lnTo>
                  <a:pt x="4630" y="1156"/>
                </a:lnTo>
                <a:lnTo>
                  <a:pt x="4607" y="1106"/>
                </a:lnTo>
                <a:lnTo>
                  <a:pt x="4598" y="948"/>
                </a:lnTo>
                <a:lnTo>
                  <a:pt x="4600" y="826"/>
                </a:lnTo>
                <a:lnTo>
                  <a:pt x="4580" y="751"/>
                </a:lnTo>
                <a:lnTo>
                  <a:pt x="4545" y="727"/>
                </a:lnTo>
                <a:lnTo>
                  <a:pt x="4477" y="701"/>
                </a:lnTo>
                <a:lnTo>
                  <a:pt x="4466" y="652"/>
                </a:lnTo>
                <a:lnTo>
                  <a:pt x="4467" y="604"/>
                </a:lnTo>
                <a:lnTo>
                  <a:pt x="4433" y="530"/>
                </a:lnTo>
                <a:lnTo>
                  <a:pt x="4366" y="503"/>
                </a:lnTo>
                <a:lnTo>
                  <a:pt x="4323" y="441"/>
                </a:lnTo>
                <a:lnTo>
                  <a:pt x="4356" y="418"/>
                </a:lnTo>
                <a:lnTo>
                  <a:pt x="4402" y="443"/>
                </a:lnTo>
                <a:lnTo>
                  <a:pt x="4447" y="456"/>
                </a:lnTo>
                <a:lnTo>
                  <a:pt x="4526" y="458"/>
                </a:lnTo>
                <a:lnTo>
                  <a:pt x="4583" y="445"/>
                </a:lnTo>
                <a:lnTo>
                  <a:pt x="4618" y="434"/>
                </a:lnTo>
                <a:lnTo>
                  <a:pt x="4618" y="398"/>
                </a:lnTo>
                <a:lnTo>
                  <a:pt x="4653" y="362"/>
                </a:lnTo>
                <a:lnTo>
                  <a:pt x="4711" y="375"/>
                </a:lnTo>
                <a:lnTo>
                  <a:pt x="4767" y="438"/>
                </a:lnTo>
                <a:lnTo>
                  <a:pt x="4822" y="499"/>
                </a:lnTo>
                <a:lnTo>
                  <a:pt x="4889" y="526"/>
                </a:lnTo>
                <a:lnTo>
                  <a:pt x="4936" y="490"/>
                </a:lnTo>
                <a:lnTo>
                  <a:pt x="4948" y="490"/>
                </a:lnTo>
                <a:lnTo>
                  <a:pt x="4993" y="528"/>
                </a:lnTo>
                <a:lnTo>
                  <a:pt x="4993" y="576"/>
                </a:lnTo>
                <a:lnTo>
                  <a:pt x="5094" y="602"/>
                </a:lnTo>
                <a:lnTo>
                  <a:pt x="5172" y="715"/>
                </a:lnTo>
                <a:lnTo>
                  <a:pt x="5262" y="764"/>
                </a:lnTo>
                <a:lnTo>
                  <a:pt x="5295" y="887"/>
                </a:lnTo>
                <a:lnTo>
                  <a:pt x="5327" y="985"/>
                </a:lnTo>
                <a:lnTo>
                  <a:pt x="5349" y="1023"/>
                </a:lnTo>
                <a:lnTo>
                  <a:pt x="5326" y="1046"/>
                </a:lnTo>
                <a:lnTo>
                  <a:pt x="5325" y="1096"/>
                </a:lnTo>
                <a:lnTo>
                  <a:pt x="5369" y="1170"/>
                </a:lnTo>
                <a:lnTo>
                  <a:pt x="5449" y="1171"/>
                </a:lnTo>
                <a:lnTo>
                  <a:pt x="5494" y="1183"/>
                </a:lnTo>
                <a:lnTo>
                  <a:pt x="5597" y="1211"/>
                </a:lnTo>
                <a:lnTo>
                  <a:pt x="5629" y="1260"/>
                </a:lnTo>
                <a:lnTo>
                  <a:pt x="5674" y="1334"/>
                </a:lnTo>
                <a:lnTo>
                  <a:pt x="5707" y="1384"/>
                </a:lnTo>
                <a:lnTo>
                  <a:pt x="5764" y="1384"/>
                </a:lnTo>
                <a:lnTo>
                  <a:pt x="5788" y="1348"/>
                </a:lnTo>
                <a:lnTo>
                  <a:pt x="5799" y="1337"/>
                </a:lnTo>
                <a:lnTo>
                  <a:pt x="5821" y="1373"/>
                </a:lnTo>
                <a:lnTo>
                  <a:pt x="5867" y="1385"/>
                </a:lnTo>
                <a:lnTo>
                  <a:pt x="5902" y="1374"/>
                </a:lnTo>
                <a:lnTo>
                  <a:pt x="5923" y="1473"/>
                </a:lnTo>
                <a:lnTo>
                  <a:pt x="5967" y="1548"/>
                </a:lnTo>
                <a:lnTo>
                  <a:pt x="6011" y="1585"/>
                </a:lnTo>
                <a:lnTo>
                  <a:pt x="6011" y="1634"/>
                </a:lnTo>
                <a:lnTo>
                  <a:pt x="5976" y="1659"/>
                </a:lnTo>
                <a:lnTo>
                  <a:pt x="5975" y="1707"/>
                </a:lnTo>
                <a:lnTo>
                  <a:pt x="5985" y="1781"/>
                </a:lnTo>
                <a:lnTo>
                  <a:pt x="6031" y="1817"/>
                </a:lnTo>
                <a:lnTo>
                  <a:pt x="6110" y="1844"/>
                </a:lnTo>
                <a:lnTo>
                  <a:pt x="6155" y="1868"/>
                </a:lnTo>
                <a:lnTo>
                  <a:pt x="6177" y="1833"/>
                </a:lnTo>
                <a:lnTo>
                  <a:pt x="6247" y="1847"/>
                </a:lnTo>
                <a:lnTo>
                  <a:pt x="6290" y="1872"/>
                </a:lnTo>
                <a:lnTo>
                  <a:pt x="6267" y="1957"/>
                </a:lnTo>
                <a:lnTo>
                  <a:pt x="6267" y="2030"/>
                </a:lnTo>
                <a:lnTo>
                  <a:pt x="6288" y="2066"/>
                </a:lnTo>
                <a:lnTo>
                  <a:pt x="6311" y="2104"/>
                </a:lnTo>
                <a:lnTo>
                  <a:pt x="6276" y="2140"/>
                </a:lnTo>
                <a:lnTo>
                  <a:pt x="6243" y="2164"/>
                </a:lnTo>
                <a:lnTo>
                  <a:pt x="6241" y="2225"/>
                </a:lnTo>
                <a:lnTo>
                  <a:pt x="6274" y="2248"/>
                </a:lnTo>
                <a:lnTo>
                  <a:pt x="6285" y="2299"/>
                </a:lnTo>
                <a:lnTo>
                  <a:pt x="6365" y="2299"/>
                </a:lnTo>
                <a:lnTo>
                  <a:pt x="6376" y="2288"/>
                </a:lnTo>
                <a:lnTo>
                  <a:pt x="6421" y="2326"/>
                </a:lnTo>
                <a:lnTo>
                  <a:pt x="6396" y="2387"/>
                </a:lnTo>
                <a:lnTo>
                  <a:pt x="6420" y="2424"/>
                </a:lnTo>
                <a:lnTo>
                  <a:pt x="6465" y="2412"/>
                </a:lnTo>
                <a:lnTo>
                  <a:pt x="6511" y="2363"/>
                </a:lnTo>
                <a:lnTo>
                  <a:pt x="6568" y="2389"/>
                </a:lnTo>
                <a:lnTo>
                  <a:pt x="6636" y="2415"/>
                </a:lnTo>
                <a:lnTo>
                  <a:pt x="6648" y="2367"/>
                </a:lnTo>
                <a:lnTo>
                  <a:pt x="6660" y="2317"/>
                </a:lnTo>
                <a:lnTo>
                  <a:pt x="6740" y="2381"/>
                </a:lnTo>
                <a:lnTo>
                  <a:pt x="6817" y="2407"/>
                </a:lnTo>
                <a:lnTo>
                  <a:pt x="6909" y="2433"/>
                </a:lnTo>
                <a:lnTo>
                  <a:pt x="6955" y="2409"/>
                </a:lnTo>
                <a:lnTo>
                  <a:pt x="6990" y="2398"/>
                </a:lnTo>
                <a:lnTo>
                  <a:pt x="7047" y="2412"/>
                </a:lnTo>
                <a:lnTo>
                  <a:pt x="7069" y="2374"/>
                </a:lnTo>
                <a:lnTo>
                  <a:pt x="7082" y="2324"/>
                </a:lnTo>
                <a:lnTo>
                  <a:pt x="7127" y="2326"/>
                </a:lnTo>
                <a:lnTo>
                  <a:pt x="7184" y="2303"/>
                </a:lnTo>
                <a:lnTo>
                  <a:pt x="7220" y="2255"/>
                </a:lnTo>
                <a:lnTo>
                  <a:pt x="7334" y="2196"/>
                </a:lnTo>
                <a:lnTo>
                  <a:pt x="7391" y="2186"/>
                </a:lnTo>
                <a:lnTo>
                  <a:pt x="7448" y="2198"/>
                </a:lnTo>
                <a:lnTo>
                  <a:pt x="7551" y="2225"/>
                </a:lnTo>
                <a:lnTo>
                  <a:pt x="7629" y="2262"/>
                </a:lnTo>
                <a:lnTo>
                  <a:pt x="7640" y="2312"/>
                </a:lnTo>
                <a:lnTo>
                  <a:pt x="7661" y="2362"/>
                </a:lnTo>
                <a:lnTo>
                  <a:pt x="7683" y="2374"/>
                </a:lnTo>
                <a:lnTo>
                  <a:pt x="7730" y="2337"/>
                </a:lnTo>
                <a:lnTo>
                  <a:pt x="7798" y="2352"/>
                </a:lnTo>
                <a:lnTo>
                  <a:pt x="7855" y="2328"/>
                </a:lnTo>
                <a:lnTo>
                  <a:pt x="7880" y="2292"/>
                </a:lnTo>
                <a:lnTo>
                  <a:pt x="7925" y="2232"/>
                </a:lnTo>
                <a:lnTo>
                  <a:pt x="7971" y="2246"/>
                </a:lnTo>
                <a:lnTo>
                  <a:pt x="7983" y="2196"/>
                </a:lnTo>
                <a:lnTo>
                  <a:pt x="8120" y="2223"/>
                </a:lnTo>
                <a:lnTo>
                  <a:pt x="8174" y="2286"/>
                </a:lnTo>
                <a:lnTo>
                  <a:pt x="8231" y="2347"/>
                </a:lnTo>
                <a:lnTo>
                  <a:pt x="8243" y="2397"/>
                </a:lnTo>
                <a:lnTo>
                  <a:pt x="8253" y="2434"/>
                </a:lnTo>
                <a:lnTo>
                  <a:pt x="8310" y="2435"/>
                </a:lnTo>
                <a:lnTo>
                  <a:pt x="8334" y="2374"/>
                </a:lnTo>
                <a:lnTo>
                  <a:pt x="8379" y="2399"/>
                </a:lnTo>
                <a:lnTo>
                  <a:pt x="8412" y="2424"/>
                </a:lnTo>
                <a:lnTo>
                  <a:pt x="8481" y="2425"/>
                </a:lnTo>
                <a:lnTo>
                  <a:pt x="8502" y="2449"/>
                </a:lnTo>
                <a:lnTo>
                  <a:pt x="8491" y="2487"/>
                </a:lnTo>
                <a:lnTo>
                  <a:pt x="8536" y="2513"/>
                </a:lnTo>
                <a:lnTo>
                  <a:pt x="8592" y="2575"/>
                </a:lnTo>
                <a:lnTo>
                  <a:pt x="8626" y="2612"/>
                </a:lnTo>
                <a:lnTo>
                  <a:pt x="8672" y="2575"/>
                </a:lnTo>
                <a:lnTo>
                  <a:pt x="8717" y="2612"/>
                </a:lnTo>
                <a:lnTo>
                  <a:pt x="8705" y="2650"/>
                </a:lnTo>
                <a:lnTo>
                  <a:pt x="8236" y="3495"/>
                </a:lnTo>
                <a:lnTo>
                  <a:pt x="8235" y="3545"/>
                </a:lnTo>
                <a:lnTo>
                  <a:pt x="8279" y="3595"/>
                </a:lnTo>
                <a:lnTo>
                  <a:pt x="8359" y="3609"/>
                </a:lnTo>
                <a:lnTo>
                  <a:pt x="8440" y="3586"/>
                </a:lnTo>
                <a:lnTo>
                  <a:pt x="8463" y="3549"/>
                </a:lnTo>
                <a:lnTo>
                  <a:pt x="8530" y="3563"/>
                </a:lnTo>
                <a:lnTo>
                  <a:pt x="8576" y="3575"/>
                </a:lnTo>
                <a:lnTo>
                  <a:pt x="8598" y="3650"/>
                </a:lnTo>
                <a:lnTo>
                  <a:pt x="8776" y="3884"/>
                </a:lnTo>
                <a:lnTo>
                  <a:pt x="8763" y="3958"/>
                </a:lnTo>
                <a:lnTo>
                  <a:pt x="8728" y="3982"/>
                </a:lnTo>
                <a:lnTo>
                  <a:pt x="8694" y="3969"/>
                </a:lnTo>
                <a:lnTo>
                  <a:pt x="8650" y="3931"/>
                </a:lnTo>
                <a:lnTo>
                  <a:pt x="8627" y="3943"/>
                </a:lnTo>
                <a:lnTo>
                  <a:pt x="8614" y="4004"/>
                </a:lnTo>
                <a:lnTo>
                  <a:pt x="8569" y="4003"/>
                </a:lnTo>
                <a:lnTo>
                  <a:pt x="8558" y="3941"/>
                </a:lnTo>
                <a:lnTo>
                  <a:pt x="8536" y="3893"/>
                </a:lnTo>
                <a:lnTo>
                  <a:pt x="8502" y="3854"/>
                </a:lnTo>
                <a:lnTo>
                  <a:pt x="8434" y="3878"/>
                </a:lnTo>
                <a:lnTo>
                  <a:pt x="8365" y="3903"/>
                </a:lnTo>
                <a:lnTo>
                  <a:pt x="8353" y="3914"/>
                </a:lnTo>
                <a:lnTo>
                  <a:pt x="8298" y="3901"/>
                </a:lnTo>
                <a:lnTo>
                  <a:pt x="8230" y="3874"/>
                </a:lnTo>
                <a:lnTo>
                  <a:pt x="8161" y="3898"/>
                </a:lnTo>
                <a:lnTo>
                  <a:pt x="8115" y="3947"/>
                </a:lnTo>
                <a:lnTo>
                  <a:pt x="8092" y="4007"/>
                </a:lnTo>
                <a:lnTo>
                  <a:pt x="8033" y="4042"/>
                </a:lnTo>
                <a:lnTo>
                  <a:pt x="7940" y="4066"/>
                </a:lnTo>
                <a:lnTo>
                  <a:pt x="7838" y="4100"/>
                </a:lnTo>
                <a:lnTo>
                  <a:pt x="7736" y="4123"/>
                </a:lnTo>
                <a:lnTo>
                  <a:pt x="7668" y="4121"/>
                </a:lnTo>
                <a:lnTo>
                  <a:pt x="7633" y="4156"/>
                </a:lnTo>
                <a:lnTo>
                  <a:pt x="7531" y="4143"/>
                </a:lnTo>
                <a:lnTo>
                  <a:pt x="7484" y="4179"/>
                </a:lnTo>
                <a:lnTo>
                  <a:pt x="7360" y="4140"/>
                </a:lnTo>
                <a:lnTo>
                  <a:pt x="7255" y="4236"/>
                </a:lnTo>
                <a:lnTo>
                  <a:pt x="7154" y="4221"/>
                </a:lnTo>
                <a:lnTo>
                  <a:pt x="7106" y="4268"/>
                </a:lnTo>
                <a:lnTo>
                  <a:pt x="7061" y="4317"/>
                </a:lnTo>
                <a:lnTo>
                  <a:pt x="7004" y="4353"/>
                </a:lnTo>
                <a:lnTo>
                  <a:pt x="6935" y="4352"/>
                </a:lnTo>
                <a:lnTo>
                  <a:pt x="6911" y="4388"/>
                </a:lnTo>
                <a:lnTo>
                  <a:pt x="6899" y="4461"/>
                </a:lnTo>
                <a:lnTo>
                  <a:pt x="6876" y="4485"/>
                </a:lnTo>
                <a:lnTo>
                  <a:pt x="6807" y="4508"/>
                </a:lnTo>
                <a:lnTo>
                  <a:pt x="6750" y="4532"/>
                </a:lnTo>
                <a:lnTo>
                  <a:pt x="6724" y="4605"/>
                </a:lnTo>
                <a:lnTo>
                  <a:pt x="6667" y="4653"/>
                </a:lnTo>
                <a:lnTo>
                  <a:pt x="6610" y="4664"/>
                </a:lnTo>
                <a:lnTo>
                  <a:pt x="6520" y="4697"/>
                </a:lnTo>
                <a:lnTo>
                  <a:pt x="6495" y="4722"/>
                </a:lnTo>
                <a:lnTo>
                  <a:pt x="6450" y="4770"/>
                </a:lnTo>
                <a:lnTo>
                  <a:pt x="6449" y="4831"/>
                </a:lnTo>
                <a:lnTo>
                  <a:pt x="6423" y="4941"/>
                </a:lnTo>
                <a:lnTo>
                  <a:pt x="6388" y="5050"/>
                </a:lnTo>
                <a:lnTo>
                  <a:pt x="6421" y="5099"/>
                </a:lnTo>
                <a:lnTo>
                  <a:pt x="6432" y="5149"/>
                </a:lnTo>
                <a:lnTo>
                  <a:pt x="6374" y="5196"/>
                </a:lnTo>
                <a:lnTo>
                  <a:pt x="6247" y="5328"/>
                </a:lnTo>
                <a:lnTo>
                  <a:pt x="6211" y="5377"/>
                </a:lnTo>
                <a:lnTo>
                  <a:pt x="6210" y="5474"/>
                </a:lnTo>
                <a:lnTo>
                  <a:pt x="6174" y="5547"/>
                </a:lnTo>
                <a:lnTo>
                  <a:pt x="6209" y="5608"/>
                </a:lnTo>
                <a:lnTo>
                  <a:pt x="6275" y="5684"/>
                </a:lnTo>
                <a:lnTo>
                  <a:pt x="6286" y="5746"/>
                </a:lnTo>
                <a:lnTo>
                  <a:pt x="6330" y="5807"/>
                </a:lnTo>
                <a:lnTo>
                  <a:pt x="6340" y="5856"/>
                </a:lnTo>
                <a:lnTo>
                  <a:pt x="6293" y="5928"/>
                </a:lnTo>
                <a:lnTo>
                  <a:pt x="6237" y="5963"/>
                </a:lnTo>
                <a:lnTo>
                  <a:pt x="6146" y="5937"/>
                </a:lnTo>
                <a:lnTo>
                  <a:pt x="6066" y="5984"/>
                </a:lnTo>
                <a:lnTo>
                  <a:pt x="5940" y="5996"/>
                </a:lnTo>
                <a:lnTo>
                  <a:pt x="5847" y="6090"/>
                </a:lnTo>
                <a:lnTo>
                  <a:pt x="5754" y="6224"/>
                </a:lnTo>
                <a:lnTo>
                  <a:pt x="5718" y="6382"/>
                </a:lnTo>
                <a:lnTo>
                  <a:pt x="5784" y="6481"/>
                </a:lnTo>
                <a:lnTo>
                  <a:pt x="5806" y="6543"/>
                </a:lnTo>
                <a:lnTo>
                  <a:pt x="5760" y="6578"/>
                </a:lnTo>
                <a:lnTo>
                  <a:pt x="5646" y="6600"/>
                </a:lnTo>
                <a:lnTo>
                  <a:pt x="5589" y="6610"/>
                </a:lnTo>
                <a:lnTo>
                  <a:pt x="5576" y="6710"/>
                </a:lnTo>
                <a:lnTo>
                  <a:pt x="5596" y="6807"/>
                </a:lnTo>
                <a:lnTo>
                  <a:pt x="5686" y="6870"/>
                </a:lnTo>
                <a:lnTo>
                  <a:pt x="5764" y="6932"/>
                </a:lnTo>
                <a:lnTo>
                  <a:pt x="5799" y="6971"/>
                </a:lnTo>
                <a:lnTo>
                  <a:pt x="5776" y="7006"/>
                </a:lnTo>
                <a:lnTo>
                  <a:pt x="5729" y="7018"/>
                </a:lnTo>
                <a:lnTo>
                  <a:pt x="5728" y="7067"/>
                </a:lnTo>
                <a:lnTo>
                  <a:pt x="5830" y="7178"/>
                </a:lnTo>
                <a:lnTo>
                  <a:pt x="5863" y="7228"/>
                </a:lnTo>
                <a:lnTo>
                  <a:pt x="5883" y="7326"/>
                </a:lnTo>
                <a:lnTo>
                  <a:pt x="5940" y="7388"/>
                </a:lnTo>
                <a:lnTo>
                  <a:pt x="5939" y="7450"/>
                </a:lnTo>
                <a:lnTo>
                  <a:pt x="6051" y="7574"/>
                </a:lnTo>
                <a:lnTo>
                  <a:pt x="6083" y="7648"/>
                </a:lnTo>
                <a:lnTo>
                  <a:pt x="6139" y="7734"/>
                </a:lnTo>
                <a:lnTo>
                  <a:pt x="6208" y="7784"/>
                </a:lnTo>
                <a:lnTo>
                  <a:pt x="6285" y="7907"/>
                </a:lnTo>
                <a:lnTo>
                  <a:pt x="6373" y="7982"/>
                </a:lnTo>
                <a:lnTo>
                  <a:pt x="6385" y="8057"/>
                </a:lnTo>
                <a:lnTo>
                  <a:pt x="6350" y="8129"/>
                </a:lnTo>
                <a:lnTo>
                  <a:pt x="6268" y="8189"/>
                </a:lnTo>
                <a:lnTo>
                  <a:pt x="6210" y="8261"/>
                </a:lnTo>
                <a:lnTo>
                  <a:pt x="6186" y="8310"/>
                </a:lnTo>
                <a:lnTo>
                  <a:pt x="6197" y="8345"/>
                </a:lnTo>
                <a:lnTo>
                  <a:pt x="6607" y="8366"/>
                </a:lnTo>
                <a:lnTo>
                  <a:pt x="6699" y="8391"/>
                </a:lnTo>
                <a:lnTo>
                  <a:pt x="6755" y="8416"/>
                </a:lnTo>
                <a:lnTo>
                  <a:pt x="6902" y="8420"/>
                </a:lnTo>
                <a:lnTo>
                  <a:pt x="6901" y="8468"/>
                </a:lnTo>
                <a:lnTo>
                  <a:pt x="6935" y="8507"/>
                </a:lnTo>
                <a:lnTo>
                  <a:pt x="6911" y="8567"/>
                </a:lnTo>
                <a:lnTo>
                  <a:pt x="6911" y="8592"/>
                </a:lnTo>
                <a:lnTo>
                  <a:pt x="6990" y="8692"/>
                </a:lnTo>
                <a:lnTo>
                  <a:pt x="6987" y="8849"/>
                </a:lnTo>
                <a:lnTo>
                  <a:pt x="7727" y="8864"/>
                </a:lnTo>
                <a:lnTo>
                  <a:pt x="7774" y="8791"/>
                </a:lnTo>
                <a:lnTo>
                  <a:pt x="7819" y="8730"/>
                </a:lnTo>
                <a:lnTo>
                  <a:pt x="7923" y="8696"/>
                </a:lnTo>
                <a:lnTo>
                  <a:pt x="7946" y="8672"/>
                </a:lnTo>
                <a:lnTo>
                  <a:pt x="7971" y="8587"/>
                </a:lnTo>
                <a:lnTo>
                  <a:pt x="8258" y="8372"/>
                </a:lnTo>
                <a:lnTo>
                  <a:pt x="8349" y="8374"/>
                </a:lnTo>
                <a:lnTo>
                  <a:pt x="8302" y="8433"/>
                </a:lnTo>
                <a:lnTo>
                  <a:pt x="8279" y="8543"/>
                </a:lnTo>
                <a:lnTo>
                  <a:pt x="8324" y="8605"/>
                </a:lnTo>
                <a:lnTo>
                  <a:pt x="8323" y="8643"/>
                </a:lnTo>
                <a:lnTo>
                  <a:pt x="8299" y="8679"/>
                </a:lnTo>
                <a:lnTo>
                  <a:pt x="8231" y="8678"/>
                </a:lnTo>
                <a:lnTo>
                  <a:pt x="8214" y="9715"/>
                </a:lnTo>
                <a:lnTo>
                  <a:pt x="8259" y="9704"/>
                </a:lnTo>
                <a:lnTo>
                  <a:pt x="8305" y="9718"/>
                </a:lnTo>
                <a:lnTo>
                  <a:pt x="8349" y="9791"/>
                </a:lnTo>
                <a:lnTo>
                  <a:pt x="8394" y="9829"/>
                </a:lnTo>
                <a:lnTo>
                  <a:pt x="8508" y="9844"/>
                </a:lnTo>
                <a:lnTo>
                  <a:pt x="8634" y="9784"/>
                </a:lnTo>
                <a:lnTo>
                  <a:pt x="8714" y="9700"/>
                </a:lnTo>
                <a:lnTo>
                  <a:pt x="8771" y="9690"/>
                </a:lnTo>
                <a:lnTo>
                  <a:pt x="8853" y="9728"/>
                </a:lnTo>
                <a:lnTo>
                  <a:pt x="8920" y="9740"/>
                </a:lnTo>
                <a:lnTo>
                  <a:pt x="9023" y="9694"/>
                </a:lnTo>
                <a:lnTo>
                  <a:pt x="9661" y="10990"/>
                </a:lnTo>
                <a:lnTo>
                  <a:pt x="9672" y="11062"/>
                </a:lnTo>
                <a:lnTo>
                  <a:pt x="9649" y="11111"/>
                </a:lnTo>
                <a:lnTo>
                  <a:pt x="9592" y="11134"/>
                </a:lnTo>
                <a:lnTo>
                  <a:pt x="9579" y="11184"/>
                </a:lnTo>
                <a:lnTo>
                  <a:pt x="9578" y="11280"/>
                </a:lnTo>
                <a:lnTo>
                  <a:pt x="9554" y="11329"/>
                </a:lnTo>
                <a:lnTo>
                  <a:pt x="9496" y="11376"/>
                </a:lnTo>
                <a:lnTo>
                  <a:pt x="9450" y="11436"/>
                </a:lnTo>
                <a:lnTo>
                  <a:pt x="9437" y="11522"/>
                </a:lnTo>
                <a:lnTo>
                  <a:pt x="9448" y="11548"/>
                </a:lnTo>
                <a:lnTo>
                  <a:pt x="9469" y="11671"/>
                </a:lnTo>
                <a:lnTo>
                  <a:pt x="9465" y="11889"/>
                </a:lnTo>
                <a:lnTo>
                  <a:pt x="9442" y="11976"/>
                </a:lnTo>
                <a:lnTo>
                  <a:pt x="9383" y="12060"/>
                </a:lnTo>
                <a:lnTo>
                  <a:pt x="9360" y="12096"/>
                </a:lnTo>
                <a:lnTo>
                  <a:pt x="9426" y="12158"/>
                </a:lnTo>
                <a:lnTo>
                  <a:pt x="9472" y="12208"/>
                </a:lnTo>
                <a:lnTo>
                  <a:pt x="9471" y="12255"/>
                </a:lnTo>
                <a:lnTo>
                  <a:pt x="9425" y="12268"/>
                </a:lnTo>
                <a:lnTo>
                  <a:pt x="9368" y="12267"/>
                </a:lnTo>
                <a:lnTo>
                  <a:pt x="9367" y="12351"/>
                </a:lnTo>
                <a:lnTo>
                  <a:pt x="9457" y="12403"/>
                </a:lnTo>
                <a:lnTo>
                  <a:pt x="9490" y="12465"/>
                </a:lnTo>
                <a:lnTo>
                  <a:pt x="9501" y="12526"/>
                </a:lnTo>
                <a:lnTo>
                  <a:pt x="9488" y="12587"/>
                </a:lnTo>
                <a:lnTo>
                  <a:pt x="9364" y="12585"/>
                </a:lnTo>
                <a:lnTo>
                  <a:pt x="9361" y="12730"/>
                </a:lnTo>
                <a:lnTo>
                  <a:pt x="9303" y="12767"/>
                </a:lnTo>
                <a:lnTo>
                  <a:pt x="9268" y="12828"/>
                </a:lnTo>
                <a:lnTo>
                  <a:pt x="9233" y="12900"/>
                </a:lnTo>
                <a:lnTo>
                  <a:pt x="9165" y="12935"/>
                </a:lnTo>
                <a:lnTo>
                  <a:pt x="9152" y="12959"/>
                </a:lnTo>
                <a:lnTo>
                  <a:pt x="9117" y="13043"/>
                </a:lnTo>
                <a:lnTo>
                  <a:pt x="9081" y="13117"/>
                </a:lnTo>
                <a:lnTo>
                  <a:pt x="9103" y="13166"/>
                </a:lnTo>
                <a:lnTo>
                  <a:pt x="9103" y="13216"/>
                </a:lnTo>
                <a:lnTo>
                  <a:pt x="9121" y="13363"/>
                </a:lnTo>
                <a:lnTo>
                  <a:pt x="9213" y="13413"/>
                </a:lnTo>
                <a:lnTo>
                  <a:pt x="9246" y="13461"/>
                </a:lnTo>
                <a:lnTo>
                  <a:pt x="9212" y="13510"/>
                </a:lnTo>
                <a:lnTo>
                  <a:pt x="9166" y="13521"/>
                </a:lnTo>
                <a:lnTo>
                  <a:pt x="9142" y="13557"/>
                </a:lnTo>
                <a:lnTo>
                  <a:pt x="9153" y="13631"/>
                </a:lnTo>
                <a:lnTo>
                  <a:pt x="9118" y="13667"/>
                </a:lnTo>
                <a:lnTo>
                  <a:pt x="9071" y="13679"/>
                </a:lnTo>
                <a:lnTo>
                  <a:pt x="9049" y="13714"/>
                </a:lnTo>
                <a:lnTo>
                  <a:pt x="9105" y="13764"/>
                </a:lnTo>
                <a:lnTo>
                  <a:pt x="9151" y="13790"/>
                </a:lnTo>
                <a:lnTo>
                  <a:pt x="9182" y="13864"/>
                </a:lnTo>
                <a:lnTo>
                  <a:pt x="9205" y="13876"/>
                </a:lnTo>
                <a:lnTo>
                  <a:pt x="9251" y="13865"/>
                </a:lnTo>
                <a:lnTo>
                  <a:pt x="9339" y="14050"/>
                </a:lnTo>
                <a:lnTo>
                  <a:pt x="9497" y="14042"/>
                </a:lnTo>
                <a:lnTo>
                  <a:pt x="9486" y="14126"/>
                </a:lnTo>
                <a:lnTo>
                  <a:pt x="9473" y="14174"/>
                </a:lnTo>
                <a:lnTo>
                  <a:pt x="9608" y="14312"/>
                </a:lnTo>
                <a:lnTo>
                  <a:pt x="9630" y="14362"/>
                </a:lnTo>
                <a:lnTo>
                  <a:pt x="9606" y="14421"/>
                </a:lnTo>
                <a:lnTo>
                  <a:pt x="9572" y="14470"/>
                </a:lnTo>
                <a:lnTo>
                  <a:pt x="9536" y="14531"/>
                </a:lnTo>
                <a:lnTo>
                  <a:pt x="9457" y="14541"/>
                </a:lnTo>
                <a:lnTo>
                  <a:pt x="9401" y="14504"/>
                </a:lnTo>
                <a:lnTo>
                  <a:pt x="9355" y="14479"/>
                </a:lnTo>
                <a:lnTo>
                  <a:pt x="9378" y="14552"/>
                </a:lnTo>
                <a:lnTo>
                  <a:pt x="9421" y="14626"/>
                </a:lnTo>
                <a:lnTo>
                  <a:pt x="9307" y="14648"/>
                </a:lnTo>
                <a:lnTo>
                  <a:pt x="9284" y="14623"/>
                </a:lnTo>
                <a:lnTo>
                  <a:pt x="9284" y="14635"/>
                </a:lnTo>
                <a:lnTo>
                  <a:pt x="9237" y="14771"/>
                </a:lnTo>
                <a:lnTo>
                  <a:pt x="9179" y="14793"/>
                </a:lnTo>
                <a:lnTo>
                  <a:pt x="9098" y="14889"/>
                </a:lnTo>
                <a:lnTo>
                  <a:pt x="9075" y="14936"/>
                </a:lnTo>
                <a:lnTo>
                  <a:pt x="9004" y="15071"/>
                </a:lnTo>
                <a:lnTo>
                  <a:pt x="8957" y="15118"/>
                </a:lnTo>
                <a:lnTo>
                  <a:pt x="8899" y="15130"/>
                </a:lnTo>
                <a:lnTo>
                  <a:pt x="8832" y="15165"/>
                </a:lnTo>
                <a:lnTo>
                  <a:pt x="8819" y="15226"/>
                </a:lnTo>
                <a:lnTo>
                  <a:pt x="8841" y="15287"/>
                </a:lnTo>
                <a:lnTo>
                  <a:pt x="8942" y="15362"/>
                </a:lnTo>
                <a:lnTo>
                  <a:pt x="8964" y="15411"/>
                </a:lnTo>
                <a:lnTo>
                  <a:pt x="8940" y="15521"/>
                </a:lnTo>
                <a:lnTo>
                  <a:pt x="8836" y="15531"/>
                </a:lnTo>
                <a:lnTo>
                  <a:pt x="8801" y="15580"/>
                </a:lnTo>
                <a:lnTo>
                  <a:pt x="8744" y="15591"/>
                </a:lnTo>
                <a:lnTo>
                  <a:pt x="8687" y="15615"/>
                </a:lnTo>
                <a:lnTo>
                  <a:pt x="8675" y="15700"/>
                </a:lnTo>
                <a:lnTo>
                  <a:pt x="8706" y="15847"/>
                </a:lnTo>
                <a:lnTo>
                  <a:pt x="8680" y="15956"/>
                </a:lnTo>
                <a:lnTo>
                  <a:pt x="8612" y="16041"/>
                </a:lnTo>
                <a:lnTo>
                  <a:pt x="8542" y="16137"/>
                </a:lnTo>
                <a:lnTo>
                  <a:pt x="8473" y="16161"/>
                </a:lnTo>
                <a:lnTo>
                  <a:pt x="8427" y="16183"/>
                </a:lnTo>
                <a:lnTo>
                  <a:pt x="8371" y="16146"/>
                </a:lnTo>
                <a:lnTo>
                  <a:pt x="8337" y="16133"/>
                </a:lnTo>
                <a:lnTo>
                  <a:pt x="8279" y="16143"/>
                </a:lnTo>
                <a:lnTo>
                  <a:pt x="8267" y="16218"/>
                </a:lnTo>
                <a:lnTo>
                  <a:pt x="8301" y="16254"/>
                </a:lnTo>
                <a:lnTo>
                  <a:pt x="8310" y="16327"/>
                </a:lnTo>
                <a:lnTo>
                  <a:pt x="8301" y="16342"/>
                </a:lnTo>
                <a:lnTo>
                  <a:pt x="8279" y="16388"/>
                </a:lnTo>
                <a:lnTo>
                  <a:pt x="8294" y="16370"/>
                </a:lnTo>
                <a:lnTo>
                  <a:pt x="10114" y="16363"/>
                </a:lnTo>
                <a:lnTo>
                  <a:pt x="10114" y="0"/>
                </a:lnTo>
                <a:lnTo>
                  <a:pt x="760" y="0"/>
                </a:lnTo>
                <a:close/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6320" y="1012680"/>
            <a:ext cx="220680" cy="1208160"/>
          </a:xfrm>
          <a:custGeom>
            <a:avLst/>
            <a:gdLst/>
            <a:ahLst/>
            <a:rect l="l" t="t" r="r" b="b"/>
            <a:pathLst>
              <a:path w="510" h="3903">
                <a:moveTo>
                  <a:pt x="7" y="0"/>
                </a:moveTo>
                <a:lnTo>
                  <a:pt x="0" y="428"/>
                </a:lnTo>
                <a:lnTo>
                  <a:pt x="56" y="479"/>
                </a:lnTo>
                <a:lnTo>
                  <a:pt x="68" y="540"/>
                </a:lnTo>
                <a:lnTo>
                  <a:pt x="192" y="543"/>
                </a:lnTo>
                <a:lnTo>
                  <a:pt x="203" y="603"/>
                </a:lnTo>
                <a:lnTo>
                  <a:pt x="315" y="605"/>
                </a:lnTo>
                <a:lnTo>
                  <a:pt x="327" y="667"/>
                </a:lnTo>
                <a:lnTo>
                  <a:pt x="361" y="716"/>
                </a:lnTo>
                <a:lnTo>
                  <a:pt x="381" y="802"/>
                </a:lnTo>
                <a:lnTo>
                  <a:pt x="335" y="813"/>
                </a:lnTo>
                <a:lnTo>
                  <a:pt x="311" y="899"/>
                </a:lnTo>
                <a:lnTo>
                  <a:pt x="322" y="960"/>
                </a:lnTo>
                <a:lnTo>
                  <a:pt x="399" y="1059"/>
                </a:lnTo>
                <a:lnTo>
                  <a:pt x="489" y="1170"/>
                </a:lnTo>
                <a:lnTo>
                  <a:pt x="510" y="1281"/>
                </a:lnTo>
                <a:lnTo>
                  <a:pt x="497" y="1414"/>
                </a:lnTo>
                <a:lnTo>
                  <a:pt x="141" y="3852"/>
                </a:lnTo>
                <a:lnTo>
                  <a:pt x="129" y="3903"/>
                </a:lnTo>
                <a:lnTo>
                  <a:pt x="129" y="389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0200" y="1795320"/>
            <a:ext cx="123840" cy="46080"/>
          </a:xfrm>
          <a:custGeom>
            <a:avLst/>
            <a:gdLst/>
            <a:ahLst/>
            <a:rect l="l" t="t" r="r" b="b"/>
            <a:pathLst>
              <a:path w="285" h="157">
                <a:moveTo>
                  <a:pt x="79" y="133"/>
                </a:moveTo>
                <a:lnTo>
                  <a:pt x="34" y="157"/>
                </a:lnTo>
                <a:lnTo>
                  <a:pt x="0" y="132"/>
                </a:lnTo>
                <a:lnTo>
                  <a:pt x="34" y="119"/>
                </a:lnTo>
                <a:lnTo>
                  <a:pt x="58" y="73"/>
                </a:lnTo>
                <a:lnTo>
                  <a:pt x="93" y="25"/>
                </a:lnTo>
                <a:lnTo>
                  <a:pt x="139" y="25"/>
                </a:lnTo>
                <a:lnTo>
                  <a:pt x="174" y="0"/>
                </a:lnTo>
                <a:lnTo>
                  <a:pt x="231" y="15"/>
                </a:lnTo>
                <a:lnTo>
                  <a:pt x="285" y="40"/>
                </a:lnTo>
                <a:lnTo>
                  <a:pt x="263" y="77"/>
                </a:lnTo>
                <a:lnTo>
                  <a:pt x="230" y="99"/>
                </a:lnTo>
                <a:lnTo>
                  <a:pt x="160" y="122"/>
                </a:lnTo>
                <a:lnTo>
                  <a:pt x="115" y="109"/>
                </a:lnTo>
                <a:lnTo>
                  <a:pt x="126" y="109"/>
                </a:lnTo>
                <a:lnTo>
                  <a:pt x="79" y="13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6480" y="1320840"/>
            <a:ext cx="89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6680" y="1206360"/>
            <a:ext cx="96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03800" y="2824200"/>
            <a:ext cx="66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6703200" y="456192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01240" y="597852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26360" y="4259160"/>
            <a:ext cx="41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18520" y="2693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0840" y="5100480"/>
            <a:ext cx="500040" cy="414360"/>
          </a:xfrm>
          <a:custGeom>
            <a:avLst/>
            <a:gdLst/>
            <a:ahLst/>
            <a:rect l="l" t="t" r="r" b="b"/>
            <a:pathLst>
              <a:path w="265" h="317">
                <a:moveTo>
                  <a:pt x="16" y="90"/>
                </a:moveTo>
                <a:cubicBezTo>
                  <a:pt x="11" y="109"/>
                  <a:pt x="1" y="138"/>
                  <a:pt x="16" y="156"/>
                </a:cubicBezTo>
                <a:cubicBezTo>
                  <a:pt x="21" y="162"/>
                  <a:pt x="32" y="152"/>
                  <a:pt x="40" y="150"/>
                </a:cubicBezTo>
                <a:cubicBezTo>
                  <a:pt x="53" y="153"/>
                  <a:pt x="78" y="154"/>
                  <a:pt x="88" y="168"/>
                </a:cubicBezTo>
                <a:cubicBezTo>
                  <a:pt x="116" y="209"/>
                  <a:pt x="72" y="176"/>
                  <a:pt x="106" y="210"/>
                </a:cubicBezTo>
                <a:cubicBezTo>
                  <a:pt x="123" y="227"/>
                  <a:pt x="140" y="237"/>
                  <a:pt x="154" y="258"/>
                </a:cubicBezTo>
                <a:cubicBezTo>
                  <a:pt x="158" y="277"/>
                  <a:pt x="155" y="317"/>
                  <a:pt x="196" y="282"/>
                </a:cubicBezTo>
                <a:cubicBezTo>
                  <a:pt x="265" y="222"/>
                  <a:pt x="169" y="259"/>
                  <a:pt x="226" y="240"/>
                </a:cubicBezTo>
                <a:cubicBezTo>
                  <a:pt x="230" y="227"/>
                  <a:pt x="241" y="204"/>
                  <a:pt x="226" y="192"/>
                </a:cubicBezTo>
                <a:cubicBezTo>
                  <a:pt x="220" y="187"/>
                  <a:pt x="210" y="196"/>
                  <a:pt x="202" y="198"/>
                </a:cubicBezTo>
                <a:cubicBezTo>
                  <a:pt x="188" y="193"/>
                  <a:pt x="171" y="195"/>
                  <a:pt x="160" y="186"/>
                </a:cubicBezTo>
                <a:cubicBezTo>
                  <a:pt x="155" y="182"/>
                  <a:pt x="150" y="172"/>
                  <a:pt x="154" y="168"/>
                </a:cubicBezTo>
                <a:cubicBezTo>
                  <a:pt x="158" y="164"/>
                  <a:pt x="166" y="172"/>
                  <a:pt x="172" y="174"/>
                </a:cubicBezTo>
                <a:cubicBezTo>
                  <a:pt x="180" y="172"/>
                  <a:pt x="193" y="176"/>
                  <a:pt x="196" y="168"/>
                </a:cubicBezTo>
                <a:cubicBezTo>
                  <a:pt x="201" y="157"/>
                  <a:pt x="190" y="123"/>
                  <a:pt x="178" y="114"/>
                </a:cubicBezTo>
                <a:cubicBezTo>
                  <a:pt x="173" y="110"/>
                  <a:pt x="166" y="111"/>
                  <a:pt x="160" y="108"/>
                </a:cubicBezTo>
                <a:cubicBezTo>
                  <a:pt x="138" y="96"/>
                  <a:pt x="109" y="80"/>
                  <a:pt x="88" y="66"/>
                </a:cubicBezTo>
                <a:cubicBezTo>
                  <a:pt x="77" y="32"/>
                  <a:pt x="79" y="18"/>
                  <a:pt x="52" y="0"/>
                </a:cubicBezTo>
                <a:cubicBezTo>
                  <a:pt x="27" y="8"/>
                  <a:pt x="30" y="21"/>
                  <a:pt x="16" y="42"/>
                </a:cubicBezTo>
                <a:cubicBezTo>
                  <a:pt x="10" y="87"/>
                  <a:pt x="0" y="74"/>
                  <a:pt x="16" y="9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380280" y="5145120"/>
            <a:ext cx="166680" cy="148680"/>
            <a:chOff x="6380280" y="5145120"/>
            <a:chExt cx="166680" cy="148680"/>
          </a:xfrm>
        </p:grpSpPr>
        <p:sp>
          <p:nvSpPr>
            <p:cNvPr id="91" name=""/>
            <p:cNvSpPr/>
            <p:nvPr/>
          </p:nvSpPr>
          <p:spPr>
            <a:xfrm>
              <a:off x="6380280" y="5155920"/>
              <a:ext cx="166680" cy="137880"/>
            </a:xfrm>
            <a:custGeom>
              <a:avLst/>
              <a:gdLst/>
              <a:ahLst/>
              <a:rect l="l" t="t" r="r" b="b"/>
              <a:pathLst>
                <a:path w="330" h="311">
                  <a:moveTo>
                    <a:pt x="0" y="288"/>
                  </a:moveTo>
                  <a:cubicBezTo>
                    <a:pt x="16" y="257"/>
                    <a:pt x="17" y="229"/>
                    <a:pt x="42" y="204"/>
                  </a:cubicBezTo>
                  <a:cubicBezTo>
                    <a:pt x="48" y="186"/>
                    <a:pt x="47" y="163"/>
                    <a:pt x="60" y="150"/>
                  </a:cubicBezTo>
                  <a:cubicBezTo>
                    <a:pt x="71" y="139"/>
                    <a:pt x="99" y="115"/>
                    <a:pt x="108" y="96"/>
                  </a:cubicBezTo>
                  <a:cubicBezTo>
                    <a:pt x="122" y="64"/>
                    <a:pt x="120" y="12"/>
                    <a:pt x="156" y="0"/>
                  </a:cubicBezTo>
                  <a:cubicBezTo>
                    <a:pt x="199" y="29"/>
                    <a:pt x="213" y="74"/>
                    <a:pt x="228" y="120"/>
                  </a:cubicBezTo>
                  <a:cubicBezTo>
                    <a:pt x="236" y="145"/>
                    <a:pt x="246" y="163"/>
                    <a:pt x="258" y="186"/>
                  </a:cubicBezTo>
                  <a:cubicBezTo>
                    <a:pt x="261" y="192"/>
                    <a:pt x="259" y="200"/>
                    <a:pt x="264" y="204"/>
                  </a:cubicBezTo>
                  <a:cubicBezTo>
                    <a:pt x="274" y="211"/>
                    <a:pt x="288" y="212"/>
                    <a:pt x="300" y="216"/>
                  </a:cubicBezTo>
                  <a:cubicBezTo>
                    <a:pt x="307" y="238"/>
                    <a:pt x="317" y="257"/>
                    <a:pt x="330" y="276"/>
                  </a:cubicBezTo>
                  <a:cubicBezTo>
                    <a:pt x="224" y="311"/>
                    <a:pt x="110" y="297"/>
                    <a:pt x="0" y="288"/>
                  </a:cubicBez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28520" y="5145120"/>
              <a:ext cx="66600" cy="5616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0" y="114"/>
                  </a:moveTo>
                  <a:cubicBezTo>
                    <a:pt x="12" y="77"/>
                    <a:pt x="19" y="14"/>
                    <a:pt x="60" y="0"/>
                  </a:cubicBezTo>
                  <a:cubicBezTo>
                    <a:pt x="77" y="26"/>
                    <a:pt x="81" y="48"/>
                    <a:pt x="108" y="66"/>
                  </a:cubicBezTo>
                  <a:cubicBezTo>
                    <a:pt x="124" y="114"/>
                    <a:pt x="132" y="104"/>
                    <a:pt x="84" y="96"/>
                  </a:cubicBezTo>
                  <a:cubicBezTo>
                    <a:pt x="80" y="93"/>
                    <a:pt x="56" y="75"/>
                    <a:pt x="48" y="78"/>
                  </a:cubicBezTo>
                  <a:cubicBezTo>
                    <a:pt x="41" y="81"/>
                    <a:pt x="41" y="90"/>
                    <a:pt x="36" y="96"/>
                  </a:cubicBezTo>
                  <a:cubicBezTo>
                    <a:pt x="27" y="106"/>
                    <a:pt x="0" y="127"/>
                    <a:pt x="0" y="11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874960" y="2247840"/>
            <a:ext cx="4088880" cy="3755880"/>
            <a:chOff x="2874960" y="2247840"/>
            <a:chExt cx="4088880" cy="3755880"/>
          </a:xfrm>
        </p:grpSpPr>
        <p:grpSp>
          <p:nvGrpSpPr>
            <p:cNvPr id="94" name=""/>
            <p:cNvGrpSpPr/>
            <p:nvPr/>
          </p:nvGrpSpPr>
          <p:grpSpPr>
            <a:xfrm>
              <a:off x="6797520" y="5854680"/>
              <a:ext cx="166320" cy="149040"/>
              <a:chOff x="6797520" y="5854680"/>
              <a:chExt cx="166320" cy="149040"/>
            </a:xfrm>
          </p:grpSpPr>
          <p:sp>
            <p:nvSpPr>
              <p:cNvPr id="95" name=""/>
              <p:cNvSpPr/>
              <p:nvPr/>
            </p:nvSpPr>
            <p:spPr>
              <a:xfrm>
                <a:off x="6797520" y="586548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5760" y="585468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464160" y="5815080"/>
              <a:ext cx="166320" cy="147600"/>
              <a:chOff x="6464160" y="5815080"/>
              <a:chExt cx="166320" cy="147600"/>
            </a:xfrm>
          </p:grpSpPr>
          <p:sp>
            <p:nvSpPr>
              <p:cNvPr id="98" name=""/>
              <p:cNvSpPr/>
              <p:nvPr/>
            </p:nvSpPr>
            <p:spPr>
              <a:xfrm>
                <a:off x="6464160" y="58258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512400" y="58150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297480" y="5591160"/>
              <a:ext cx="166320" cy="147600"/>
              <a:chOff x="6297480" y="5591160"/>
              <a:chExt cx="166320" cy="147600"/>
            </a:xfrm>
          </p:grpSpPr>
          <p:sp>
            <p:nvSpPr>
              <p:cNvPr id="101" name=""/>
              <p:cNvSpPr/>
              <p:nvPr/>
            </p:nvSpPr>
            <p:spPr>
              <a:xfrm>
                <a:off x="6297480" y="56019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45720" y="55911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6560" y="5515200"/>
              <a:ext cx="166320" cy="150840"/>
              <a:chOff x="6046560" y="5515200"/>
              <a:chExt cx="166320" cy="150840"/>
            </a:xfrm>
          </p:grpSpPr>
          <p:sp>
            <p:nvSpPr>
              <p:cNvPr id="104" name=""/>
              <p:cNvSpPr/>
              <p:nvPr/>
            </p:nvSpPr>
            <p:spPr>
              <a:xfrm>
                <a:off x="6046560" y="552636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94800" y="55152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046560" y="5367600"/>
              <a:ext cx="166320" cy="147600"/>
              <a:chOff x="6046560" y="5367600"/>
              <a:chExt cx="166320" cy="147600"/>
            </a:xfrm>
          </p:grpSpPr>
          <p:sp>
            <p:nvSpPr>
              <p:cNvPr id="107" name=""/>
              <p:cNvSpPr/>
              <p:nvPr/>
            </p:nvSpPr>
            <p:spPr>
              <a:xfrm>
                <a:off x="6046560" y="537840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94800" y="53676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711400" y="5218200"/>
              <a:ext cx="166320" cy="149040"/>
              <a:chOff x="5711400" y="5218200"/>
              <a:chExt cx="166320" cy="149040"/>
            </a:xfrm>
          </p:grpSpPr>
          <p:sp>
            <p:nvSpPr>
              <p:cNvPr id="110" name=""/>
              <p:cNvSpPr/>
              <p:nvPr/>
            </p:nvSpPr>
            <p:spPr>
              <a:xfrm>
                <a:off x="5711400" y="522900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521820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032160" y="4951440"/>
              <a:ext cx="166320" cy="149040"/>
              <a:chOff x="6032160" y="4951440"/>
              <a:chExt cx="166320" cy="149040"/>
            </a:xfrm>
          </p:grpSpPr>
          <p:sp>
            <p:nvSpPr>
              <p:cNvPr id="113" name=""/>
              <p:cNvSpPr/>
              <p:nvPr/>
            </p:nvSpPr>
            <p:spPr>
              <a:xfrm>
                <a:off x="6032160" y="4962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80400" y="4951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52800" y="4929120"/>
              <a:ext cx="166320" cy="150840"/>
              <a:chOff x="5752800" y="4929120"/>
              <a:chExt cx="166320" cy="150840"/>
            </a:xfrm>
          </p:grpSpPr>
          <p:sp>
            <p:nvSpPr>
              <p:cNvPr id="116" name=""/>
              <p:cNvSpPr/>
              <p:nvPr/>
            </p:nvSpPr>
            <p:spPr>
              <a:xfrm>
                <a:off x="5752800" y="49402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01040" y="49291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805360" y="5079960"/>
              <a:ext cx="166320" cy="147600"/>
              <a:chOff x="5805360" y="5079960"/>
              <a:chExt cx="166320" cy="147600"/>
            </a:xfrm>
          </p:grpSpPr>
          <p:sp>
            <p:nvSpPr>
              <p:cNvPr id="119" name=""/>
              <p:cNvSpPr/>
              <p:nvPr/>
            </p:nvSpPr>
            <p:spPr>
              <a:xfrm>
                <a:off x="5805360" y="50907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53600" y="50799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455800" y="4672080"/>
              <a:ext cx="166320" cy="146160"/>
              <a:chOff x="5455800" y="4672080"/>
              <a:chExt cx="166320" cy="146160"/>
            </a:xfrm>
          </p:grpSpPr>
          <p:sp>
            <p:nvSpPr>
              <p:cNvPr id="122" name=""/>
              <p:cNvSpPr/>
              <p:nvPr/>
            </p:nvSpPr>
            <p:spPr>
              <a:xfrm>
                <a:off x="5455800" y="468288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04040" y="467208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573520" y="4876920"/>
              <a:ext cx="166320" cy="148680"/>
              <a:chOff x="5573520" y="4876920"/>
              <a:chExt cx="166320" cy="148680"/>
            </a:xfrm>
          </p:grpSpPr>
          <p:sp>
            <p:nvSpPr>
              <p:cNvPr id="125" name=""/>
              <p:cNvSpPr/>
              <p:nvPr/>
            </p:nvSpPr>
            <p:spPr>
              <a:xfrm>
                <a:off x="5573520" y="488772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21760" y="487692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14640" y="4541760"/>
              <a:ext cx="166320" cy="147960"/>
              <a:chOff x="4814640" y="4541760"/>
              <a:chExt cx="166320" cy="147960"/>
            </a:xfrm>
          </p:grpSpPr>
          <p:sp>
            <p:nvSpPr>
              <p:cNvPr id="128" name=""/>
              <p:cNvSpPr/>
              <p:nvPr/>
            </p:nvSpPr>
            <p:spPr>
              <a:xfrm>
                <a:off x="4814640" y="455256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62880" y="45417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019480" y="4299120"/>
              <a:ext cx="166320" cy="147600"/>
              <a:chOff x="5019480" y="4299120"/>
              <a:chExt cx="166320" cy="147600"/>
            </a:xfrm>
          </p:grpSpPr>
          <p:sp>
            <p:nvSpPr>
              <p:cNvPr id="131" name=""/>
              <p:cNvSpPr/>
              <p:nvPr/>
            </p:nvSpPr>
            <p:spPr>
              <a:xfrm>
                <a:off x="5019480" y="430992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67720" y="429912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825800" y="4281480"/>
              <a:ext cx="166320" cy="147600"/>
              <a:chOff x="4825800" y="4281480"/>
              <a:chExt cx="166320" cy="147600"/>
            </a:xfrm>
          </p:grpSpPr>
          <p:sp>
            <p:nvSpPr>
              <p:cNvPr id="134" name=""/>
              <p:cNvSpPr/>
              <p:nvPr/>
            </p:nvSpPr>
            <p:spPr>
              <a:xfrm>
                <a:off x="4825800" y="4292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74040" y="4281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659120" y="4230720"/>
              <a:ext cx="166320" cy="149040"/>
              <a:chOff x="4659120" y="4230720"/>
              <a:chExt cx="166320" cy="149040"/>
            </a:xfrm>
          </p:grpSpPr>
          <p:sp>
            <p:nvSpPr>
              <p:cNvPr id="137" name=""/>
              <p:cNvSpPr/>
              <p:nvPr/>
            </p:nvSpPr>
            <p:spPr>
              <a:xfrm>
                <a:off x="4659120" y="424152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07360" y="423072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824000" y="4094280"/>
              <a:ext cx="166320" cy="147600"/>
              <a:chOff x="4824000" y="4094280"/>
              <a:chExt cx="166320" cy="147600"/>
            </a:xfrm>
          </p:grpSpPr>
          <p:sp>
            <p:nvSpPr>
              <p:cNvPr id="140" name=""/>
              <p:cNvSpPr/>
              <p:nvPr/>
            </p:nvSpPr>
            <p:spPr>
              <a:xfrm>
                <a:off x="4824000" y="41050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72240" y="40942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695480" y="3956040"/>
              <a:ext cx="166320" cy="147600"/>
              <a:chOff x="4695480" y="3956040"/>
              <a:chExt cx="166320" cy="147600"/>
            </a:xfrm>
          </p:grpSpPr>
          <p:sp>
            <p:nvSpPr>
              <p:cNvPr id="143" name=""/>
              <p:cNvSpPr/>
              <p:nvPr/>
            </p:nvSpPr>
            <p:spPr>
              <a:xfrm>
                <a:off x="4695480" y="396684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43720" y="395604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362120" y="3876840"/>
              <a:ext cx="166320" cy="148680"/>
              <a:chOff x="4362120" y="3876840"/>
              <a:chExt cx="166320" cy="148680"/>
            </a:xfrm>
          </p:grpSpPr>
          <p:sp>
            <p:nvSpPr>
              <p:cNvPr id="146" name=""/>
              <p:cNvSpPr/>
              <p:nvPr/>
            </p:nvSpPr>
            <p:spPr>
              <a:xfrm>
                <a:off x="4362120" y="388764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10360" y="387684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409640" y="3727440"/>
              <a:ext cx="166320" cy="149040"/>
              <a:chOff x="4409640" y="3727440"/>
              <a:chExt cx="166320" cy="149040"/>
            </a:xfrm>
          </p:grpSpPr>
          <p:sp>
            <p:nvSpPr>
              <p:cNvPr id="149" name=""/>
              <p:cNvSpPr/>
              <p:nvPr/>
            </p:nvSpPr>
            <p:spPr>
              <a:xfrm>
                <a:off x="4409640" y="3738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57880" y="3727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221000" y="3648240"/>
              <a:ext cx="167760" cy="148680"/>
              <a:chOff x="4221000" y="3648240"/>
              <a:chExt cx="167760" cy="148680"/>
            </a:xfrm>
          </p:grpSpPr>
          <p:sp>
            <p:nvSpPr>
              <p:cNvPr id="152" name=""/>
              <p:cNvSpPr/>
              <p:nvPr/>
            </p:nvSpPr>
            <p:spPr>
              <a:xfrm>
                <a:off x="4221000" y="3659040"/>
                <a:ext cx="16776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69600" y="3648240"/>
                <a:ext cx="6696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116240" y="3498840"/>
              <a:ext cx="166320" cy="149040"/>
              <a:chOff x="4116240" y="3498840"/>
              <a:chExt cx="166320" cy="149040"/>
            </a:xfrm>
          </p:grpSpPr>
          <p:sp>
            <p:nvSpPr>
              <p:cNvPr id="155" name=""/>
              <p:cNvSpPr/>
              <p:nvPr/>
            </p:nvSpPr>
            <p:spPr>
              <a:xfrm>
                <a:off x="4116240" y="35096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64480" y="34988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877920" y="3521160"/>
              <a:ext cx="166320" cy="149040"/>
              <a:chOff x="3877920" y="3521160"/>
              <a:chExt cx="166320" cy="149040"/>
            </a:xfrm>
          </p:grpSpPr>
          <p:sp>
            <p:nvSpPr>
              <p:cNvPr id="158" name=""/>
              <p:cNvSpPr/>
              <p:nvPr/>
            </p:nvSpPr>
            <p:spPr>
              <a:xfrm>
                <a:off x="3877920" y="353196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26160" y="352116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709800" y="3286080"/>
              <a:ext cx="167760" cy="149040"/>
              <a:chOff x="3709800" y="3286080"/>
              <a:chExt cx="167760" cy="149040"/>
            </a:xfrm>
          </p:grpSpPr>
          <p:sp>
            <p:nvSpPr>
              <p:cNvPr id="161" name=""/>
              <p:cNvSpPr/>
              <p:nvPr/>
            </p:nvSpPr>
            <p:spPr>
              <a:xfrm>
                <a:off x="3709800" y="3296880"/>
                <a:ext cx="16776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58400" y="3286080"/>
                <a:ext cx="6696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960360" y="3341880"/>
              <a:ext cx="166320" cy="148680"/>
              <a:chOff x="3960360" y="3341880"/>
              <a:chExt cx="166320" cy="148680"/>
            </a:xfrm>
          </p:grpSpPr>
          <p:sp>
            <p:nvSpPr>
              <p:cNvPr id="164" name=""/>
              <p:cNvSpPr/>
              <p:nvPr/>
            </p:nvSpPr>
            <p:spPr>
              <a:xfrm>
                <a:off x="3960360" y="33526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08600" y="33418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809880" y="2895840"/>
              <a:ext cx="167760" cy="150480"/>
              <a:chOff x="3809880" y="2895840"/>
              <a:chExt cx="167760" cy="150480"/>
            </a:xfrm>
          </p:grpSpPr>
          <p:sp>
            <p:nvSpPr>
              <p:cNvPr id="167" name=""/>
              <p:cNvSpPr/>
              <p:nvPr/>
            </p:nvSpPr>
            <p:spPr>
              <a:xfrm>
                <a:off x="3809880" y="2907000"/>
                <a:ext cx="167760" cy="13932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58480" y="2895840"/>
                <a:ext cx="6696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866760" y="3138480"/>
              <a:ext cx="166320" cy="147600"/>
              <a:chOff x="3866760" y="3138480"/>
              <a:chExt cx="166320" cy="14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3866760" y="3149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15000" y="3138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552480" y="2970360"/>
              <a:ext cx="166320" cy="148680"/>
              <a:chOff x="3552480" y="2970360"/>
              <a:chExt cx="166320" cy="148680"/>
            </a:xfrm>
          </p:grpSpPr>
          <p:sp>
            <p:nvSpPr>
              <p:cNvPr id="173" name=""/>
              <p:cNvSpPr/>
              <p:nvPr/>
            </p:nvSpPr>
            <p:spPr>
              <a:xfrm>
                <a:off x="3552480" y="29811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00720" y="29703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625560" y="2782800"/>
              <a:ext cx="167760" cy="147960"/>
              <a:chOff x="3625560" y="2782800"/>
              <a:chExt cx="167760" cy="147960"/>
            </a:xfrm>
          </p:grpSpPr>
          <p:sp>
            <p:nvSpPr>
              <p:cNvPr id="176" name=""/>
              <p:cNvSpPr/>
              <p:nvPr/>
            </p:nvSpPr>
            <p:spPr>
              <a:xfrm>
                <a:off x="3625560" y="2793600"/>
                <a:ext cx="16776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4160" y="2782800"/>
                <a:ext cx="6696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381120" y="2782800"/>
              <a:ext cx="166320" cy="147960"/>
              <a:chOff x="3381120" y="2782800"/>
              <a:chExt cx="166320" cy="147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381120" y="279360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29360" y="27828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508200" y="2633760"/>
              <a:ext cx="166320" cy="148680"/>
              <a:chOff x="3508200" y="2633760"/>
              <a:chExt cx="166320" cy="148680"/>
            </a:xfrm>
          </p:grpSpPr>
          <p:sp>
            <p:nvSpPr>
              <p:cNvPr id="182" name=""/>
              <p:cNvSpPr/>
              <p:nvPr/>
            </p:nvSpPr>
            <p:spPr>
              <a:xfrm>
                <a:off x="3508200" y="26445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56440" y="26337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292200" y="2619360"/>
              <a:ext cx="166320" cy="146160"/>
              <a:chOff x="3292200" y="2619360"/>
              <a:chExt cx="166320" cy="146160"/>
            </a:xfrm>
          </p:grpSpPr>
          <p:sp>
            <p:nvSpPr>
              <p:cNvPr id="185" name=""/>
              <p:cNvSpPr/>
              <p:nvPr/>
            </p:nvSpPr>
            <p:spPr>
              <a:xfrm>
                <a:off x="3292200" y="263016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40440" y="261936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292200" y="2468520"/>
              <a:ext cx="166320" cy="150840"/>
              <a:chOff x="3292200" y="2468520"/>
              <a:chExt cx="166320" cy="150840"/>
            </a:xfrm>
          </p:grpSpPr>
          <p:sp>
            <p:nvSpPr>
              <p:cNvPr id="188" name=""/>
              <p:cNvSpPr/>
              <p:nvPr/>
            </p:nvSpPr>
            <p:spPr>
              <a:xfrm>
                <a:off x="3292200" y="24796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40440" y="24685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3125520" y="2319480"/>
              <a:ext cx="166320" cy="148680"/>
              <a:chOff x="3125520" y="2319480"/>
              <a:chExt cx="166320" cy="148680"/>
            </a:xfrm>
          </p:grpSpPr>
          <p:sp>
            <p:nvSpPr>
              <p:cNvPr id="191" name=""/>
              <p:cNvSpPr/>
              <p:nvPr/>
            </p:nvSpPr>
            <p:spPr>
              <a:xfrm>
                <a:off x="3125520" y="23302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73760" y="23194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874960" y="2247840"/>
              <a:ext cx="166320" cy="146160"/>
              <a:chOff x="2874960" y="2247840"/>
              <a:chExt cx="166320" cy="146160"/>
            </a:xfrm>
          </p:grpSpPr>
          <p:sp>
            <p:nvSpPr>
              <p:cNvPr id="194" name=""/>
              <p:cNvSpPr/>
              <p:nvPr/>
            </p:nvSpPr>
            <p:spPr>
              <a:xfrm>
                <a:off x="2874960" y="225864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923200" y="224784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6494400" y="5380200"/>
            <a:ext cx="720720" cy="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go Titica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8720" y="5420520"/>
            <a:ext cx="138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AS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69840" y="5712480"/>
            <a:ext cx="14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LIDUCTO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7840" y="4084560"/>
            <a:ext cx="1762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AS  de SEPARACION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IOGÉN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74840" y="5030640"/>
            <a:ext cx="1900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PLANT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FRACCIONA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095000">
            <a:off x="1648080" y="5338800"/>
            <a:ext cx="71640" cy="4064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ff0066"/>
              </a:gs>
              <a:gs pos="100000">
                <a:srgbClr val="7500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152600">
            <a:off x="1666440" y="5666760"/>
            <a:ext cx="71640" cy="3920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183560" y="3919680"/>
            <a:ext cx="1571400" cy="964080"/>
            <a:chOff x="4183560" y="3919680"/>
            <a:chExt cx="1571400" cy="964080"/>
          </a:xfrm>
        </p:grpSpPr>
        <p:sp>
          <p:nvSpPr>
            <p:cNvPr id="204" name=""/>
            <p:cNvSpPr/>
            <p:nvPr/>
          </p:nvSpPr>
          <p:spPr>
            <a:xfrm rot="12992400">
              <a:off x="5434560" y="4020840"/>
              <a:ext cx="71640" cy="6364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4901600">
              <a:off x="4946760" y="4356360"/>
              <a:ext cx="87480" cy="711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8835800">
              <a:off x="4430160" y="4221360"/>
              <a:ext cx="71280" cy="7156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8471600">
              <a:off x="5183280" y="4092480"/>
              <a:ext cx="5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09360" y="4139280"/>
            <a:ext cx="1398600" cy="1018080"/>
            <a:chOff x="4509360" y="4139280"/>
            <a:chExt cx="1398600" cy="1018080"/>
          </a:xfrm>
        </p:grpSpPr>
        <p:sp>
          <p:nvSpPr>
            <p:cNvPr id="209" name=""/>
            <p:cNvSpPr/>
            <p:nvPr/>
          </p:nvSpPr>
          <p:spPr>
            <a:xfrm rot="12992400">
              <a:off x="5487480" y="4091760"/>
              <a:ext cx="70920" cy="69660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4901600">
              <a:off x="4895640" y="4393440"/>
              <a:ext cx="87480" cy="8902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0259000">
              <a:off x="4943520" y="4710960"/>
              <a:ext cx="94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QUI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357800" y="4780080"/>
            <a:ext cx="385560" cy="263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649840" y="3833640"/>
            <a:ext cx="385920" cy="290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280040" y="4587840"/>
            <a:ext cx="83880" cy="65160"/>
          </a:xfrm>
          <a:custGeom>
            <a:avLst/>
            <a:gdLst/>
            <a:ahLst/>
            <a:rect l="l" t="t" r="r" b="b"/>
            <a:pathLst>
              <a:path w="93" h="99">
                <a:moveTo>
                  <a:pt x="93" y="49"/>
                </a:moveTo>
                <a:lnTo>
                  <a:pt x="79" y="13"/>
                </a:lnTo>
                <a:lnTo>
                  <a:pt x="46" y="0"/>
                </a:lnTo>
                <a:lnTo>
                  <a:pt x="12" y="13"/>
                </a:lnTo>
                <a:lnTo>
                  <a:pt x="0" y="49"/>
                </a:lnTo>
                <a:lnTo>
                  <a:pt x="12" y="84"/>
                </a:lnTo>
                <a:lnTo>
                  <a:pt x="46" y="99"/>
                </a:lnTo>
                <a:lnTo>
                  <a:pt x="79" y="84"/>
                </a:lnTo>
                <a:lnTo>
                  <a:pt x="93" y="49"/>
                </a:lnTo>
                <a:lnTo>
                  <a:pt x="93" y="49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87880" y="3597120"/>
            <a:ext cx="990720" cy="3049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8000"/>
                </a:solidFill>
                <a:latin typeface="Arial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76520" y="4267080"/>
            <a:ext cx="2572920" cy="609480"/>
            <a:chOff x="1676520" y="4267080"/>
            <a:chExt cx="2572920" cy="609480"/>
          </a:xfrm>
        </p:grpSpPr>
        <p:sp>
          <p:nvSpPr>
            <p:cNvPr id="217" name=""/>
            <p:cNvSpPr/>
            <p:nvPr/>
          </p:nvSpPr>
          <p:spPr>
            <a:xfrm>
              <a:off x="3265560" y="4419360"/>
              <a:ext cx="983880" cy="304200"/>
            </a:xfrm>
            <a:prstGeom prst="rightArrow">
              <a:avLst>
                <a:gd name="adj1" fmla="val 50000"/>
                <a:gd name="adj2" fmla="val 80858"/>
              </a:avLst>
            </a:prstGeom>
            <a:solidFill>
              <a:srgbClr val="ffff00"/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76520" y="4267080"/>
              <a:ext cx="158904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8000"/>
                  </a:solidFill>
                  <a:latin typeface="Arial"/>
                </a:rPr>
                <a:t>PLANTA L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8000"/>
                  </a:solidFill>
                  <a:latin typeface="Arial"/>
                </a:rPr>
                <a:t>Km 16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581280" y="47242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4960" y="25704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bicación del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CA113-0745-4C32-BA36-0C1B5CFA8583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762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yecto Camisea: Estructura de Participación</a:t>
            </a:r>
            <a:br>
              <a:rPr sz="32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28600" y="-76320"/>
            <a:ext cx="8915400" cy="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219320"/>
            <a:ext cx="342900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a la fecha más de $700 mill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88 otorgado en  concesión el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las instalaciones/producción: Agosto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incluy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 pozos produ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3 pozos de re-iny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criogénica en Malv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fraccionadora en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Hasta inicio de la planta de LNG el gas se vende en el mercado local y se re-inyecta en el reserv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íquidos se venden en el mercado local y se exportan. Producción 37,000 bp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Se requiere instalaciones adicionales para el desarrollo (Cashiriari 2008-20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56.  EIA aprobado en Julio 2005. Sísmica 3D en proce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1295280"/>
            <a:ext cx="297180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Concesión/BOOT otorgada en 2000 a Transportadora de Gas del Peru’ (TG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más de $800 millones a la fe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729 km ducto de gas a L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58 km ducto de líquidos a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Ambos ductos operativos en Agost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pstream tiene contrato TOP para el ducto de 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Gobierno peruano otorgó garantía para el ducto de g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eruLNG requiere una expansión del ducto para los volúmenes a transportar para la planta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1295280"/>
            <a:ext cx="2438280" cy="49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bicación a 170 km sur de Lima en Pampa Melchorita, 135 m sobre el nivel del 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n tren de proceso con potencial para expansión (522-hectár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marítimas para exportación; construcción de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Desarrollo de cantera para roca del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Fase I de construcción: Agosto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Fase II se estima iniciar Enero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257800"/>
            <a:ext cx="16765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 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27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25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7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15200" y="5486400"/>
            <a:ext cx="12952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         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             3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       2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5105520"/>
            <a:ext cx="2133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gas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3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ractebe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  8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Grana y Montero      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838080"/>
            <a:ext cx="6248520" cy="381240"/>
          </a:xfrm>
          <a:prstGeom prst="rect">
            <a:avLst/>
          </a:prstGeom>
          <a:gradFill rotWithShape="0">
            <a:gsLst>
              <a:gs pos="0">
                <a:srgbClr val="8a8a53"/>
              </a:gs>
              <a:gs pos="50000">
                <a:srgbClr val="ffff99"/>
              </a:gs>
              <a:gs pos="100000">
                <a:srgbClr val="8a8a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38080"/>
            <a:ext cx="1752480" cy="38124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5181480"/>
            <a:ext cx="1676520" cy="1143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5029200"/>
            <a:ext cx="1676520" cy="1371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5410080"/>
            <a:ext cx="1295640" cy="838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0266-4459-4671-AD7C-074E15EE16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85880" y="2530440"/>
            <a:ext cx="3202200" cy="1654200"/>
          </a:xfrm>
          <a:custGeom>
            <a:avLst/>
            <a:gdLst/>
            <a:ahLst/>
            <a:rect l="l" t="t" r="r" b="b"/>
            <a:pathLst>
              <a:path w="7696" h="3971">
                <a:moveTo>
                  <a:pt x="7696" y="3971"/>
                </a:moveTo>
                <a:lnTo>
                  <a:pt x="7656" y="3907"/>
                </a:lnTo>
                <a:lnTo>
                  <a:pt x="39" y="0"/>
                </a:lnTo>
                <a:lnTo>
                  <a:pt x="0" y="23"/>
                </a:lnTo>
                <a:lnTo>
                  <a:pt x="7696" y="3971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85880" y="1298520"/>
            <a:ext cx="15840" cy="1241640"/>
          </a:xfrm>
          <a:custGeom>
            <a:avLst/>
            <a:gdLst/>
            <a:ahLst/>
            <a:rect l="l" t="t" r="r" b="b"/>
            <a:pathLst>
              <a:path w="39" h="2990">
                <a:moveTo>
                  <a:pt x="0" y="2990"/>
                </a:moveTo>
                <a:lnTo>
                  <a:pt x="39" y="2967"/>
                </a:lnTo>
                <a:lnTo>
                  <a:pt x="39" y="65"/>
                </a:lnTo>
                <a:lnTo>
                  <a:pt x="0" y="0"/>
                </a:lnTo>
                <a:lnTo>
                  <a:pt x="0" y="299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85880" y="1298520"/>
            <a:ext cx="3202200" cy="1650960"/>
          </a:xfrm>
          <a:custGeom>
            <a:avLst/>
            <a:gdLst/>
            <a:ahLst/>
            <a:rect l="l" t="t" r="r" b="b"/>
            <a:pathLst>
              <a:path w="7696" h="3973">
                <a:moveTo>
                  <a:pt x="0" y="0"/>
                </a:moveTo>
                <a:lnTo>
                  <a:pt x="39" y="65"/>
                </a:lnTo>
                <a:lnTo>
                  <a:pt x="7656" y="3973"/>
                </a:lnTo>
                <a:lnTo>
                  <a:pt x="7696" y="394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47840" y="1222200"/>
            <a:ext cx="8381880" cy="4972320"/>
            <a:chOff x="447840" y="1222200"/>
            <a:chExt cx="8381880" cy="4972320"/>
          </a:xfrm>
        </p:grpSpPr>
        <p:sp>
          <p:nvSpPr>
            <p:cNvPr id="238" name=""/>
            <p:cNvSpPr/>
            <p:nvPr/>
          </p:nvSpPr>
          <p:spPr>
            <a:xfrm>
              <a:off x="447840" y="1222200"/>
              <a:ext cx="8381880" cy="49723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15200" y="3836880"/>
              <a:ext cx="73080" cy="71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317" y="159"/>
                  </a:moveTo>
                  <a:lnTo>
                    <a:pt x="271" y="47"/>
                  </a:lnTo>
                  <a:lnTo>
                    <a:pt x="158" y="0"/>
                  </a:lnTo>
                  <a:lnTo>
                    <a:pt x="46" y="47"/>
                  </a:lnTo>
                  <a:lnTo>
                    <a:pt x="0" y="159"/>
                  </a:lnTo>
                  <a:lnTo>
                    <a:pt x="46" y="272"/>
                  </a:lnTo>
                  <a:lnTo>
                    <a:pt x="158" y="319"/>
                  </a:lnTo>
                  <a:lnTo>
                    <a:pt x="271" y="272"/>
                  </a:lnTo>
                  <a:lnTo>
                    <a:pt x="317" y="1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07280" y="3828960"/>
              <a:ext cx="88920" cy="87480"/>
            </a:xfrm>
            <a:custGeom>
              <a:avLst/>
              <a:gdLst/>
              <a:ahLst/>
              <a:rect l="l" t="t" r="r" b="b"/>
              <a:pathLst>
                <a:path w="391" h="390">
                  <a:moveTo>
                    <a:pt x="391" y="195"/>
                  </a:moveTo>
                  <a:lnTo>
                    <a:pt x="334" y="58"/>
                  </a:lnTo>
                  <a:lnTo>
                    <a:pt x="195" y="0"/>
                  </a:lnTo>
                  <a:lnTo>
                    <a:pt x="57" y="58"/>
                  </a:lnTo>
                  <a:lnTo>
                    <a:pt x="0" y="195"/>
                  </a:lnTo>
                  <a:lnTo>
                    <a:pt x="57" y="333"/>
                  </a:lnTo>
                  <a:lnTo>
                    <a:pt x="195" y="390"/>
                  </a:lnTo>
                  <a:lnTo>
                    <a:pt x="334" y="333"/>
                  </a:lnTo>
                  <a:lnTo>
                    <a:pt x="391" y="19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440240" y="349200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0240" y="357012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49960" y="35449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76640" y="4540320"/>
              <a:ext cx="47880" cy="27000"/>
            </a:xfrm>
            <a:custGeom>
              <a:avLst/>
              <a:gdLst/>
              <a:ahLst/>
              <a:rect l="l" t="t" r="r" b="b"/>
              <a:pathLst>
                <a:path w="210" h="119">
                  <a:moveTo>
                    <a:pt x="210" y="119"/>
                  </a:moveTo>
                  <a:lnTo>
                    <a:pt x="176" y="36"/>
                  </a:lnTo>
                  <a:lnTo>
                    <a:pt x="91" y="0"/>
                  </a:lnTo>
                  <a:lnTo>
                    <a:pt x="7" y="3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70520" y="4567320"/>
              <a:ext cx="47520" cy="28440"/>
            </a:xfrm>
            <a:custGeom>
              <a:avLst/>
              <a:gdLst/>
              <a:ahLst/>
              <a:rect l="l" t="t" r="r" b="b"/>
              <a:pathLst>
                <a:path w="211" h="120">
                  <a:moveTo>
                    <a:pt x="0" y="0"/>
                  </a:moveTo>
                  <a:lnTo>
                    <a:pt x="35" y="85"/>
                  </a:lnTo>
                  <a:lnTo>
                    <a:pt x="119" y="120"/>
                  </a:lnTo>
                  <a:lnTo>
                    <a:pt x="204" y="85"/>
                  </a:lnTo>
                  <a:lnTo>
                    <a:pt x="211" y="68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24520" y="4567320"/>
              <a:ext cx="1440" cy="144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71920" y="3368520"/>
              <a:ext cx="28800" cy="84240"/>
            </a:xfrm>
            <a:custGeom>
              <a:avLst/>
              <a:gdLst/>
              <a:ahLst/>
              <a:rect l="l" t="t" r="r" b="b"/>
              <a:pathLst>
                <a:path w="130" h="367">
                  <a:moveTo>
                    <a:pt x="130" y="88"/>
                  </a:moveTo>
                  <a:lnTo>
                    <a:pt x="122" y="53"/>
                  </a:lnTo>
                  <a:lnTo>
                    <a:pt x="104" y="19"/>
                  </a:lnTo>
                  <a:lnTo>
                    <a:pt x="87" y="0"/>
                  </a:lnTo>
                  <a:lnTo>
                    <a:pt x="52" y="0"/>
                  </a:lnTo>
                  <a:lnTo>
                    <a:pt x="34" y="19"/>
                  </a:lnTo>
                  <a:lnTo>
                    <a:pt x="17" y="53"/>
                  </a:lnTo>
                  <a:lnTo>
                    <a:pt x="8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8" y="281"/>
                  </a:lnTo>
                  <a:lnTo>
                    <a:pt x="17" y="316"/>
                  </a:lnTo>
                  <a:lnTo>
                    <a:pt x="34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4" y="350"/>
                  </a:lnTo>
                  <a:lnTo>
                    <a:pt x="122" y="316"/>
                  </a:lnTo>
                  <a:lnTo>
                    <a:pt x="130" y="281"/>
                  </a:lnTo>
                  <a:lnTo>
                    <a:pt x="130" y="228"/>
                  </a:lnTo>
                  <a:lnTo>
                    <a:pt x="87" y="2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13320" y="3368520"/>
              <a:ext cx="31680" cy="84240"/>
            </a:xfrm>
            <a:custGeom>
              <a:avLst/>
              <a:gdLst/>
              <a:ahLst/>
              <a:rect l="l" t="t" r="r" b="b"/>
              <a:pathLst>
                <a:path w="139" h="367">
                  <a:moveTo>
                    <a:pt x="52" y="0"/>
                  </a:moveTo>
                  <a:lnTo>
                    <a:pt x="35" y="19"/>
                  </a:lnTo>
                  <a:lnTo>
                    <a:pt x="17" y="53"/>
                  </a:lnTo>
                  <a:lnTo>
                    <a:pt x="9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9" y="281"/>
                  </a:lnTo>
                  <a:lnTo>
                    <a:pt x="17" y="316"/>
                  </a:lnTo>
                  <a:lnTo>
                    <a:pt x="35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5" y="350"/>
                  </a:lnTo>
                  <a:lnTo>
                    <a:pt x="122" y="316"/>
                  </a:lnTo>
                  <a:lnTo>
                    <a:pt x="131" y="281"/>
                  </a:lnTo>
                  <a:lnTo>
                    <a:pt x="139" y="228"/>
                  </a:lnTo>
                  <a:lnTo>
                    <a:pt x="139" y="141"/>
                  </a:lnTo>
                  <a:lnTo>
                    <a:pt x="131" y="88"/>
                  </a:lnTo>
                  <a:lnTo>
                    <a:pt x="122" y="53"/>
                  </a:lnTo>
                  <a:lnTo>
                    <a:pt x="105" y="19"/>
                  </a:lnTo>
                  <a:lnTo>
                    <a:pt x="87" y="0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178400" y="1222200"/>
              <a:ext cx="11160" cy="428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8360" y="4381560"/>
              <a:ext cx="3473280" cy="274680"/>
            </a:xfrm>
            <a:custGeom>
              <a:avLst/>
              <a:gdLst/>
              <a:ahLst/>
              <a:rect l="l" t="t" r="r" b="b"/>
              <a:pathLst>
                <a:path w="15316" h="1213">
                  <a:moveTo>
                    <a:pt x="0" y="0"/>
                  </a:moveTo>
                  <a:lnTo>
                    <a:pt x="176" y="65"/>
                  </a:lnTo>
                  <a:lnTo>
                    <a:pt x="554" y="357"/>
                  </a:lnTo>
                  <a:lnTo>
                    <a:pt x="741" y="443"/>
                  </a:lnTo>
                  <a:lnTo>
                    <a:pt x="974" y="408"/>
                  </a:lnTo>
                  <a:lnTo>
                    <a:pt x="845" y="202"/>
                  </a:lnTo>
                  <a:lnTo>
                    <a:pt x="1023" y="129"/>
                  </a:lnTo>
                  <a:lnTo>
                    <a:pt x="1508" y="115"/>
                  </a:lnTo>
                  <a:lnTo>
                    <a:pt x="1713" y="24"/>
                  </a:lnTo>
                  <a:lnTo>
                    <a:pt x="1917" y="128"/>
                  </a:lnTo>
                  <a:lnTo>
                    <a:pt x="1971" y="315"/>
                  </a:lnTo>
                  <a:lnTo>
                    <a:pt x="2138" y="383"/>
                  </a:lnTo>
                  <a:lnTo>
                    <a:pt x="2406" y="553"/>
                  </a:lnTo>
                  <a:lnTo>
                    <a:pt x="2555" y="592"/>
                  </a:lnTo>
                  <a:lnTo>
                    <a:pt x="2706" y="481"/>
                  </a:lnTo>
                  <a:lnTo>
                    <a:pt x="2830" y="90"/>
                  </a:lnTo>
                  <a:lnTo>
                    <a:pt x="3231" y="10"/>
                  </a:lnTo>
                  <a:lnTo>
                    <a:pt x="3548" y="13"/>
                  </a:lnTo>
                  <a:lnTo>
                    <a:pt x="3733" y="184"/>
                  </a:lnTo>
                  <a:lnTo>
                    <a:pt x="3730" y="491"/>
                  </a:lnTo>
                  <a:lnTo>
                    <a:pt x="3791" y="734"/>
                  </a:lnTo>
                  <a:lnTo>
                    <a:pt x="4107" y="878"/>
                  </a:lnTo>
                  <a:lnTo>
                    <a:pt x="4349" y="926"/>
                  </a:lnTo>
                  <a:lnTo>
                    <a:pt x="4693" y="883"/>
                  </a:lnTo>
                  <a:lnTo>
                    <a:pt x="5065" y="1045"/>
                  </a:lnTo>
                  <a:lnTo>
                    <a:pt x="5409" y="1048"/>
                  </a:lnTo>
                  <a:lnTo>
                    <a:pt x="5792" y="941"/>
                  </a:lnTo>
                  <a:lnTo>
                    <a:pt x="6082" y="841"/>
                  </a:lnTo>
                  <a:lnTo>
                    <a:pt x="6503" y="752"/>
                  </a:lnTo>
                  <a:lnTo>
                    <a:pt x="6883" y="820"/>
                  </a:lnTo>
                  <a:lnTo>
                    <a:pt x="7266" y="721"/>
                  </a:lnTo>
                  <a:lnTo>
                    <a:pt x="7590" y="911"/>
                  </a:lnTo>
                  <a:lnTo>
                    <a:pt x="7831" y="1045"/>
                  </a:lnTo>
                  <a:lnTo>
                    <a:pt x="8287" y="1095"/>
                  </a:lnTo>
                  <a:lnTo>
                    <a:pt x="8649" y="1118"/>
                  </a:lnTo>
                  <a:lnTo>
                    <a:pt x="9226" y="1179"/>
                  </a:lnTo>
                  <a:lnTo>
                    <a:pt x="9422" y="1171"/>
                  </a:lnTo>
                  <a:lnTo>
                    <a:pt x="9650" y="772"/>
                  </a:lnTo>
                  <a:lnTo>
                    <a:pt x="9905" y="411"/>
                  </a:lnTo>
                  <a:lnTo>
                    <a:pt x="10334" y="388"/>
                  </a:lnTo>
                  <a:lnTo>
                    <a:pt x="10660" y="391"/>
                  </a:lnTo>
                  <a:lnTo>
                    <a:pt x="11042" y="376"/>
                  </a:lnTo>
                  <a:lnTo>
                    <a:pt x="11237" y="396"/>
                  </a:lnTo>
                  <a:lnTo>
                    <a:pt x="11470" y="418"/>
                  </a:lnTo>
                  <a:lnTo>
                    <a:pt x="11925" y="571"/>
                  </a:lnTo>
                  <a:lnTo>
                    <a:pt x="12166" y="667"/>
                  </a:lnTo>
                  <a:lnTo>
                    <a:pt x="12380" y="715"/>
                  </a:lnTo>
                  <a:lnTo>
                    <a:pt x="12724" y="682"/>
                  </a:lnTo>
                  <a:lnTo>
                    <a:pt x="13135" y="564"/>
                  </a:lnTo>
                  <a:lnTo>
                    <a:pt x="13582" y="569"/>
                  </a:lnTo>
                  <a:lnTo>
                    <a:pt x="14576" y="849"/>
                  </a:lnTo>
                  <a:lnTo>
                    <a:pt x="15095" y="1087"/>
                  </a:lnTo>
                  <a:lnTo>
                    <a:pt x="15316" y="12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5520" y="3263760"/>
              <a:ext cx="3416400" cy="2322720"/>
            </a:xfrm>
            <a:custGeom>
              <a:avLst/>
              <a:gdLst/>
              <a:ahLst/>
              <a:rect l="l" t="t" r="r" b="b"/>
              <a:pathLst>
                <a:path w="15061" h="10245">
                  <a:moveTo>
                    <a:pt x="0" y="428"/>
                  </a:moveTo>
                  <a:lnTo>
                    <a:pt x="650" y="774"/>
                  </a:lnTo>
                  <a:lnTo>
                    <a:pt x="854" y="805"/>
                  </a:lnTo>
                  <a:lnTo>
                    <a:pt x="894" y="543"/>
                  </a:lnTo>
                  <a:lnTo>
                    <a:pt x="748" y="337"/>
                  </a:lnTo>
                  <a:lnTo>
                    <a:pt x="677" y="0"/>
                  </a:lnTo>
                  <a:lnTo>
                    <a:pt x="965" y="22"/>
                  </a:lnTo>
                  <a:lnTo>
                    <a:pt x="1110" y="350"/>
                  </a:lnTo>
                  <a:lnTo>
                    <a:pt x="1292" y="818"/>
                  </a:lnTo>
                  <a:lnTo>
                    <a:pt x="1205" y="1051"/>
                  </a:lnTo>
                  <a:lnTo>
                    <a:pt x="1046" y="1133"/>
                  </a:lnTo>
                  <a:lnTo>
                    <a:pt x="998" y="1244"/>
                  </a:lnTo>
                  <a:lnTo>
                    <a:pt x="922" y="1496"/>
                  </a:lnTo>
                  <a:lnTo>
                    <a:pt x="910" y="1664"/>
                  </a:lnTo>
                  <a:lnTo>
                    <a:pt x="895" y="2148"/>
                  </a:lnTo>
                  <a:lnTo>
                    <a:pt x="1137" y="2290"/>
                  </a:lnTo>
                  <a:lnTo>
                    <a:pt x="1377" y="2423"/>
                  </a:lnTo>
                  <a:lnTo>
                    <a:pt x="1486" y="2583"/>
                  </a:lnTo>
                  <a:lnTo>
                    <a:pt x="1372" y="2842"/>
                  </a:lnTo>
                  <a:lnTo>
                    <a:pt x="1350" y="3104"/>
                  </a:lnTo>
                  <a:lnTo>
                    <a:pt x="1321" y="3309"/>
                  </a:lnTo>
                  <a:lnTo>
                    <a:pt x="1023" y="3249"/>
                  </a:lnTo>
                  <a:lnTo>
                    <a:pt x="974" y="3492"/>
                  </a:lnTo>
                  <a:lnTo>
                    <a:pt x="1251" y="3747"/>
                  </a:lnTo>
                  <a:lnTo>
                    <a:pt x="1370" y="3925"/>
                  </a:lnTo>
                  <a:lnTo>
                    <a:pt x="1562" y="4281"/>
                  </a:lnTo>
                  <a:lnTo>
                    <a:pt x="1708" y="4469"/>
                  </a:lnTo>
                  <a:lnTo>
                    <a:pt x="2003" y="4780"/>
                  </a:lnTo>
                  <a:lnTo>
                    <a:pt x="2230" y="4446"/>
                  </a:lnTo>
                  <a:lnTo>
                    <a:pt x="2157" y="4259"/>
                  </a:lnTo>
                  <a:lnTo>
                    <a:pt x="2243" y="4110"/>
                  </a:lnTo>
                  <a:lnTo>
                    <a:pt x="2473" y="4355"/>
                  </a:lnTo>
                  <a:lnTo>
                    <a:pt x="2743" y="4489"/>
                  </a:lnTo>
                  <a:lnTo>
                    <a:pt x="3058" y="4585"/>
                  </a:lnTo>
                  <a:lnTo>
                    <a:pt x="3236" y="4446"/>
                  </a:lnTo>
                  <a:lnTo>
                    <a:pt x="3360" y="4187"/>
                  </a:lnTo>
                  <a:lnTo>
                    <a:pt x="3955" y="4267"/>
                  </a:lnTo>
                  <a:lnTo>
                    <a:pt x="4208" y="4204"/>
                  </a:lnTo>
                  <a:lnTo>
                    <a:pt x="4711" y="4163"/>
                  </a:lnTo>
                  <a:lnTo>
                    <a:pt x="5010" y="4026"/>
                  </a:lnTo>
                  <a:lnTo>
                    <a:pt x="5430" y="3993"/>
                  </a:lnTo>
                  <a:lnTo>
                    <a:pt x="5482" y="4254"/>
                  </a:lnTo>
                  <a:lnTo>
                    <a:pt x="5296" y="4317"/>
                  </a:lnTo>
                  <a:lnTo>
                    <a:pt x="5471" y="4468"/>
                  </a:lnTo>
                  <a:lnTo>
                    <a:pt x="5619" y="4554"/>
                  </a:lnTo>
                  <a:lnTo>
                    <a:pt x="5449" y="4767"/>
                  </a:lnTo>
                  <a:lnTo>
                    <a:pt x="5213" y="5128"/>
                  </a:lnTo>
                  <a:lnTo>
                    <a:pt x="5032" y="5463"/>
                  </a:lnTo>
                  <a:lnTo>
                    <a:pt x="4853" y="5694"/>
                  </a:lnTo>
                  <a:lnTo>
                    <a:pt x="4515" y="5868"/>
                  </a:lnTo>
                  <a:lnTo>
                    <a:pt x="4513" y="6054"/>
                  </a:lnTo>
                  <a:lnTo>
                    <a:pt x="4499" y="6417"/>
                  </a:lnTo>
                  <a:lnTo>
                    <a:pt x="4902" y="6328"/>
                  </a:lnTo>
                  <a:lnTo>
                    <a:pt x="4928" y="6404"/>
                  </a:lnTo>
                  <a:lnTo>
                    <a:pt x="4673" y="6700"/>
                  </a:lnTo>
                  <a:lnTo>
                    <a:pt x="4587" y="6932"/>
                  </a:lnTo>
                  <a:lnTo>
                    <a:pt x="4641" y="7129"/>
                  </a:lnTo>
                  <a:lnTo>
                    <a:pt x="4901" y="7280"/>
                  </a:lnTo>
                  <a:lnTo>
                    <a:pt x="4963" y="7411"/>
                  </a:lnTo>
                  <a:lnTo>
                    <a:pt x="4990" y="7626"/>
                  </a:lnTo>
                  <a:lnTo>
                    <a:pt x="5382" y="7555"/>
                  </a:lnTo>
                  <a:lnTo>
                    <a:pt x="5550" y="7482"/>
                  </a:lnTo>
                  <a:lnTo>
                    <a:pt x="5630" y="7828"/>
                  </a:lnTo>
                  <a:lnTo>
                    <a:pt x="5783" y="8258"/>
                  </a:lnTo>
                  <a:lnTo>
                    <a:pt x="6126" y="8430"/>
                  </a:lnTo>
                  <a:lnTo>
                    <a:pt x="6385" y="8629"/>
                  </a:lnTo>
                  <a:lnTo>
                    <a:pt x="6512" y="8890"/>
                  </a:lnTo>
                  <a:lnTo>
                    <a:pt x="6668" y="9181"/>
                  </a:lnTo>
                  <a:lnTo>
                    <a:pt x="6888" y="9407"/>
                  </a:lnTo>
                  <a:lnTo>
                    <a:pt x="6970" y="9576"/>
                  </a:lnTo>
                  <a:lnTo>
                    <a:pt x="7165" y="9736"/>
                  </a:lnTo>
                  <a:lnTo>
                    <a:pt x="7501" y="9619"/>
                  </a:lnTo>
                  <a:lnTo>
                    <a:pt x="7847" y="9510"/>
                  </a:lnTo>
                  <a:lnTo>
                    <a:pt x="8087" y="9643"/>
                  </a:lnTo>
                  <a:lnTo>
                    <a:pt x="8300" y="9813"/>
                  </a:lnTo>
                  <a:lnTo>
                    <a:pt x="9034" y="9950"/>
                  </a:lnTo>
                  <a:lnTo>
                    <a:pt x="9435" y="9955"/>
                  </a:lnTo>
                  <a:lnTo>
                    <a:pt x="10004" y="9858"/>
                  </a:lnTo>
                  <a:lnTo>
                    <a:pt x="10721" y="9892"/>
                  </a:lnTo>
                  <a:lnTo>
                    <a:pt x="11148" y="9999"/>
                  </a:lnTo>
                  <a:lnTo>
                    <a:pt x="11425" y="10198"/>
                  </a:lnTo>
                  <a:lnTo>
                    <a:pt x="11688" y="10033"/>
                  </a:lnTo>
                  <a:lnTo>
                    <a:pt x="12210" y="9991"/>
                  </a:lnTo>
                  <a:lnTo>
                    <a:pt x="12832" y="10147"/>
                  </a:lnTo>
                  <a:lnTo>
                    <a:pt x="13390" y="10245"/>
                  </a:lnTo>
                  <a:lnTo>
                    <a:pt x="13894" y="10175"/>
                  </a:lnTo>
                  <a:lnTo>
                    <a:pt x="14370" y="10012"/>
                  </a:lnTo>
                  <a:lnTo>
                    <a:pt x="14874" y="9924"/>
                  </a:lnTo>
                  <a:lnTo>
                    <a:pt x="15061" y="987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4800" y="1825560"/>
              <a:ext cx="344520" cy="406440"/>
            </a:xfrm>
            <a:custGeom>
              <a:avLst/>
              <a:gdLst/>
              <a:ahLst/>
              <a:rect l="l" t="t" r="r" b="b"/>
              <a:pathLst>
                <a:path w="1524" h="1793">
                  <a:moveTo>
                    <a:pt x="1524" y="1793"/>
                  </a:moveTo>
                  <a:lnTo>
                    <a:pt x="1506" y="1700"/>
                  </a:lnTo>
                  <a:lnTo>
                    <a:pt x="1267" y="1474"/>
                  </a:lnTo>
                  <a:lnTo>
                    <a:pt x="1187" y="1072"/>
                  </a:lnTo>
                  <a:lnTo>
                    <a:pt x="978" y="594"/>
                  </a:lnTo>
                  <a:lnTo>
                    <a:pt x="647" y="227"/>
                  </a:lnTo>
                  <a:lnTo>
                    <a:pt x="268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4800" y="1611360"/>
              <a:ext cx="1209600" cy="1033200"/>
            </a:xfrm>
            <a:custGeom>
              <a:avLst/>
              <a:gdLst/>
              <a:ahLst/>
              <a:rect l="l" t="t" r="r" b="b"/>
              <a:pathLst>
                <a:path w="5335" h="4557">
                  <a:moveTo>
                    <a:pt x="5335" y="0"/>
                  </a:moveTo>
                  <a:lnTo>
                    <a:pt x="4233" y="306"/>
                  </a:lnTo>
                  <a:lnTo>
                    <a:pt x="3599" y="440"/>
                  </a:lnTo>
                  <a:lnTo>
                    <a:pt x="3086" y="407"/>
                  </a:lnTo>
                  <a:lnTo>
                    <a:pt x="2785" y="693"/>
                  </a:lnTo>
                  <a:lnTo>
                    <a:pt x="2587" y="905"/>
                  </a:lnTo>
                  <a:lnTo>
                    <a:pt x="2292" y="669"/>
                  </a:lnTo>
                  <a:lnTo>
                    <a:pt x="2159" y="799"/>
                  </a:lnTo>
                  <a:lnTo>
                    <a:pt x="2606" y="1717"/>
                  </a:lnTo>
                  <a:lnTo>
                    <a:pt x="2595" y="1894"/>
                  </a:lnTo>
                  <a:lnTo>
                    <a:pt x="2342" y="1994"/>
                  </a:lnTo>
                  <a:lnTo>
                    <a:pt x="2037" y="1814"/>
                  </a:lnTo>
                  <a:lnTo>
                    <a:pt x="1819" y="2185"/>
                  </a:lnTo>
                  <a:lnTo>
                    <a:pt x="1741" y="2417"/>
                  </a:lnTo>
                  <a:lnTo>
                    <a:pt x="1804" y="2633"/>
                  </a:lnTo>
                  <a:lnTo>
                    <a:pt x="1394" y="2713"/>
                  </a:lnTo>
                  <a:lnTo>
                    <a:pt x="981" y="2942"/>
                  </a:lnTo>
                  <a:lnTo>
                    <a:pt x="894" y="3295"/>
                  </a:lnTo>
                  <a:lnTo>
                    <a:pt x="452" y="3645"/>
                  </a:lnTo>
                  <a:lnTo>
                    <a:pt x="111" y="4108"/>
                  </a:lnTo>
                  <a:lnTo>
                    <a:pt x="0" y="4557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4800" y="2557440"/>
              <a:ext cx="1525680" cy="2017800"/>
            </a:xfrm>
            <a:custGeom>
              <a:avLst/>
              <a:gdLst/>
              <a:ahLst/>
              <a:rect l="l" t="t" r="r" b="b"/>
              <a:pathLst>
                <a:path w="6726" h="8894">
                  <a:moveTo>
                    <a:pt x="6726" y="0"/>
                  </a:moveTo>
                  <a:lnTo>
                    <a:pt x="6666" y="111"/>
                  </a:lnTo>
                  <a:lnTo>
                    <a:pt x="6514" y="408"/>
                  </a:lnTo>
                  <a:lnTo>
                    <a:pt x="6133" y="377"/>
                  </a:lnTo>
                  <a:lnTo>
                    <a:pt x="6009" y="618"/>
                  </a:lnTo>
                  <a:lnTo>
                    <a:pt x="5952" y="692"/>
                  </a:lnTo>
                  <a:lnTo>
                    <a:pt x="5873" y="1129"/>
                  </a:lnTo>
                  <a:lnTo>
                    <a:pt x="5620" y="1276"/>
                  </a:lnTo>
                  <a:lnTo>
                    <a:pt x="5508" y="1229"/>
                  </a:lnTo>
                  <a:lnTo>
                    <a:pt x="5180" y="1430"/>
                  </a:lnTo>
                  <a:lnTo>
                    <a:pt x="4911" y="1372"/>
                  </a:lnTo>
                  <a:lnTo>
                    <a:pt x="4603" y="1424"/>
                  </a:lnTo>
                  <a:lnTo>
                    <a:pt x="3986" y="1643"/>
                  </a:lnTo>
                  <a:lnTo>
                    <a:pt x="3667" y="1863"/>
                  </a:lnTo>
                  <a:lnTo>
                    <a:pt x="3370" y="1833"/>
                  </a:lnTo>
                  <a:lnTo>
                    <a:pt x="3258" y="1831"/>
                  </a:lnTo>
                  <a:lnTo>
                    <a:pt x="3209" y="2036"/>
                  </a:lnTo>
                  <a:lnTo>
                    <a:pt x="3244" y="2177"/>
                  </a:lnTo>
                  <a:lnTo>
                    <a:pt x="3165" y="2577"/>
                  </a:lnTo>
                  <a:lnTo>
                    <a:pt x="3235" y="3007"/>
                  </a:lnTo>
                  <a:lnTo>
                    <a:pt x="3297" y="3314"/>
                  </a:lnTo>
                  <a:lnTo>
                    <a:pt x="3302" y="3688"/>
                  </a:lnTo>
                  <a:lnTo>
                    <a:pt x="3162" y="3817"/>
                  </a:lnTo>
                  <a:lnTo>
                    <a:pt x="3018" y="4133"/>
                  </a:lnTo>
                  <a:lnTo>
                    <a:pt x="2763" y="4438"/>
                  </a:lnTo>
                  <a:lnTo>
                    <a:pt x="2573" y="4828"/>
                  </a:lnTo>
                  <a:lnTo>
                    <a:pt x="2232" y="5365"/>
                  </a:lnTo>
                  <a:lnTo>
                    <a:pt x="2094" y="5970"/>
                  </a:lnTo>
                  <a:lnTo>
                    <a:pt x="2085" y="5979"/>
                  </a:lnTo>
                  <a:lnTo>
                    <a:pt x="2073" y="6297"/>
                  </a:lnTo>
                  <a:lnTo>
                    <a:pt x="1799" y="6546"/>
                  </a:lnTo>
                  <a:lnTo>
                    <a:pt x="1683" y="6956"/>
                  </a:lnTo>
                  <a:lnTo>
                    <a:pt x="1514" y="7178"/>
                  </a:lnTo>
                  <a:lnTo>
                    <a:pt x="1129" y="7473"/>
                  </a:lnTo>
                  <a:lnTo>
                    <a:pt x="646" y="8148"/>
                  </a:lnTo>
                  <a:lnTo>
                    <a:pt x="0" y="8894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71680" y="4890960"/>
              <a:ext cx="198360" cy="1252440"/>
            </a:xfrm>
            <a:custGeom>
              <a:avLst/>
              <a:gdLst/>
              <a:ahLst/>
              <a:rect l="l" t="t" r="r" b="b"/>
              <a:pathLst>
                <a:path w="877" h="5521">
                  <a:moveTo>
                    <a:pt x="635" y="0"/>
                  </a:moveTo>
                  <a:lnTo>
                    <a:pt x="213" y="239"/>
                  </a:lnTo>
                  <a:lnTo>
                    <a:pt x="0" y="1104"/>
                  </a:lnTo>
                  <a:lnTo>
                    <a:pt x="141" y="1776"/>
                  </a:lnTo>
                  <a:lnTo>
                    <a:pt x="153" y="2430"/>
                  </a:lnTo>
                  <a:lnTo>
                    <a:pt x="219" y="3092"/>
                  </a:lnTo>
                  <a:lnTo>
                    <a:pt x="277" y="3737"/>
                  </a:lnTo>
                  <a:lnTo>
                    <a:pt x="355" y="4279"/>
                  </a:lnTo>
                  <a:lnTo>
                    <a:pt x="555" y="4747"/>
                  </a:lnTo>
                  <a:lnTo>
                    <a:pt x="877" y="5133"/>
                  </a:lnTo>
                  <a:lnTo>
                    <a:pt x="827" y="552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98760" y="2260440"/>
              <a:ext cx="1073160" cy="3882960"/>
            </a:xfrm>
            <a:custGeom>
              <a:avLst/>
              <a:gdLst/>
              <a:ahLst/>
              <a:rect l="l" t="t" r="r" b="b"/>
              <a:pathLst>
                <a:path w="4728" h="17122">
                  <a:moveTo>
                    <a:pt x="3310" y="0"/>
                  </a:moveTo>
                  <a:lnTo>
                    <a:pt x="3299" y="123"/>
                  </a:lnTo>
                  <a:lnTo>
                    <a:pt x="3334" y="244"/>
                  </a:lnTo>
                  <a:lnTo>
                    <a:pt x="3677" y="407"/>
                  </a:lnTo>
                  <a:lnTo>
                    <a:pt x="3720" y="808"/>
                  </a:lnTo>
                  <a:lnTo>
                    <a:pt x="3253" y="925"/>
                  </a:lnTo>
                  <a:lnTo>
                    <a:pt x="3194" y="1167"/>
                  </a:lnTo>
                  <a:lnTo>
                    <a:pt x="3574" y="1338"/>
                  </a:lnTo>
                  <a:lnTo>
                    <a:pt x="3617" y="1684"/>
                  </a:lnTo>
                  <a:lnTo>
                    <a:pt x="3626" y="1712"/>
                  </a:lnTo>
                  <a:lnTo>
                    <a:pt x="3605" y="1926"/>
                  </a:lnTo>
                  <a:lnTo>
                    <a:pt x="3734" y="2012"/>
                  </a:lnTo>
                  <a:lnTo>
                    <a:pt x="3731" y="2282"/>
                  </a:lnTo>
                  <a:lnTo>
                    <a:pt x="3822" y="2478"/>
                  </a:lnTo>
                  <a:lnTo>
                    <a:pt x="4008" y="2574"/>
                  </a:lnTo>
                  <a:lnTo>
                    <a:pt x="4134" y="2939"/>
                  </a:lnTo>
                  <a:lnTo>
                    <a:pt x="4395" y="2960"/>
                  </a:lnTo>
                  <a:lnTo>
                    <a:pt x="4728" y="3122"/>
                  </a:lnTo>
                  <a:lnTo>
                    <a:pt x="4565" y="3503"/>
                  </a:lnTo>
                  <a:lnTo>
                    <a:pt x="4508" y="3642"/>
                  </a:lnTo>
                  <a:lnTo>
                    <a:pt x="4533" y="3848"/>
                  </a:lnTo>
                  <a:lnTo>
                    <a:pt x="4307" y="4153"/>
                  </a:lnTo>
                  <a:lnTo>
                    <a:pt x="4147" y="4301"/>
                  </a:lnTo>
                  <a:lnTo>
                    <a:pt x="3810" y="4521"/>
                  </a:lnTo>
                  <a:lnTo>
                    <a:pt x="3860" y="4988"/>
                  </a:lnTo>
                  <a:lnTo>
                    <a:pt x="4297" y="5076"/>
                  </a:lnTo>
                  <a:lnTo>
                    <a:pt x="4322" y="5319"/>
                  </a:lnTo>
                  <a:lnTo>
                    <a:pt x="4004" y="5399"/>
                  </a:lnTo>
                  <a:lnTo>
                    <a:pt x="3899" y="5651"/>
                  </a:lnTo>
                  <a:lnTo>
                    <a:pt x="3644" y="5993"/>
                  </a:lnTo>
                  <a:lnTo>
                    <a:pt x="3660" y="6255"/>
                  </a:lnTo>
                  <a:lnTo>
                    <a:pt x="3407" y="6327"/>
                  </a:lnTo>
                  <a:lnTo>
                    <a:pt x="3331" y="6513"/>
                  </a:lnTo>
                  <a:lnTo>
                    <a:pt x="3116" y="6623"/>
                  </a:lnTo>
                  <a:lnTo>
                    <a:pt x="2822" y="7068"/>
                  </a:lnTo>
                  <a:lnTo>
                    <a:pt x="2743" y="7439"/>
                  </a:lnTo>
                  <a:lnTo>
                    <a:pt x="2673" y="7980"/>
                  </a:lnTo>
                  <a:lnTo>
                    <a:pt x="2622" y="8287"/>
                  </a:lnTo>
                  <a:lnTo>
                    <a:pt x="2498" y="8650"/>
                  </a:lnTo>
                  <a:lnTo>
                    <a:pt x="2069" y="8654"/>
                  </a:lnTo>
                  <a:lnTo>
                    <a:pt x="1669" y="8604"/>
                  </a:lnTo>
                  <a:lnTo>
                    <a:pt x="1354" y="9310"/>
                  </a:lnTo>
                  <a:lnTo>
                    <a:pt x="1025" y="9484"/>
                  </a:lnTo>
                  <a:lnTo>
                    <a:pt x="757" y="10218"/>
                  </a:lnTo>
                  <a:lnTo>
                    <a:pt x="239" y="10735"/>
                  </a:lnTo>
                  <a:lnTo>
                    <a:pt x="38" y="11293"/>
                  </a:lnTo>
                  <a:lnTo>
                    <a:pt x="60" y="11853"/>
                  </a:lnTo>
                  <a:lnTo>
                    <a:pt x="0" y="12095"/>
                  </a:lnTo>
                  <a:lnTo>
                    <a:pt x="2" y="12785"/>
                  </a:lnTo>
                  <a:lnTo>
                    <a:pt x="73" y="13112"/>
                  </a:lnTo>
                  <a:lnTo>
                    <a:pt x="406" y="13320"/>
                  </a:lnTo>
                  <a:lnTo>
                    <a:pt x="777" y="13502"/>
                  </a:lnTo>
                  <a:lnTo>
                    <a:pt x="1203" y="13711"/>
                  </a:lnTo>
                  <a:lnTo>
                    <a:pt x="1348" y="14105"/>
                  </a:lnTo>
                  <a:lnTo>
                    <a:pt x="1541" y="14368"/>
                  </a:lnTo>
                  <a:lnTo>
                    <a:pt x="2159" y="14821"/>
                  </a:lnTo>
                  <a:lnTo>
                    <a:pt x="2268" y="15167"/>
                  </a:lnTo>
                  <a:lnTo>
                    <a:pt x="2514" y="15655"/>
                  </a:lnTo>
                  <a:lnTo>
                    <a:pt x="2850" y="16432"/>
                  </a:lnTo>
                  <a:lnTo>
                    <a:pt x="3117" y="16650"/>
                  </a:lnTo>
                  <a:lnTo>
                    <a:pt x="3597" y="17065"/>
                  </a:lnTo>
                  <a:lnTo>
                    <a:pt x="3604" y="17122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03680" y="1243080"/>
              <a:ext cx="2320920" cy="4900320"/>
            </a:xfrm>
            <a:custGeom>
              <a:avLst/>
              <a:gdLst/>
              <a:ahLst/>
              <a:rect l="l" t="t" r="r" b="b"/>
              <a:pathLst>
                <a:path w="10233" h="21610">
                  <a:moveTo>
                    <a:pt x="10233" y="21610"/>
                  </a:moveTo>
                  <a:lnTo>
                    <a:pt x="10144" y="21546"/>
                  </a:lnTo>
                  <a:lnTo>
                    <a:pt x="9942" y="21245"/>
                  </a:lnTo>
                  <a:lnTo>
                    <a:pt x="9565" y="20878"/>
                  </a:lnTo>
                  <a:lnTo>
                    <a:pt x="9586" y="20551"/>
                  </a:lnTo>
                  <a:lnTo>
                    <a:pt x="9657" y="20039"/>
                  </a:lnTo>
                  <a:lnTo>
                    <a:pt x="9536" y="19273"/>
                  </a:lnTo>
                  <a:lnTo>
                    <a:pt x="9392" y="18814"/>
                  </a:lnTo>
                  <a:lnTo>
                    <a:pt x="9218" y="18486"/>
                  </a:lnTo>
                  <a:lnTo>
                    <a:pt x="8954" y="17915"/>
                  </a:lnTo>
                  <a:lnTo>
                    <a:pt x="8781" y="17624"/>
                  </a:lnTo>
                  <a:lnTo>
                    <a:pt x="8832" y="17168"/>
                  </a:lnTo>
                  <a:lnTo>
                    <a:pt x="8835" y="16915"/>
                  </a:lnTo>
                  <a:lnTo>
                    <a:pt x="8737" y="16523"/>
                  </a:lnTo>
                  <a:lnTo>
                    <a:pt x="8722" y="16196"/>
                  </a:lnTo>
                  <a:lnTo>
                    <a:pt x="8800" y="15825"/>
                  </a:lnTo>
                  <a:lnTo>
                    <a:pt x="8813" y="15563"/>
                  </a:lnTo>
                  <a:lnTo>
                    <a:pt x="8704" y="15319"/>
                  </a:lnTo>
                  <a:lnTo>
                    <a:pt x="8643" y="14833"/>
                  </a:lnTo>
                  <a:lnTo>
                    <a:pt x="8686" y="14442"/>
                  </a:lnTo>
                  <a:lnTo>
                    <a:pt x="9006" y="14035"/>
                  </a:lnTo>
                  <a:lnTo>
                    <a:pt x="9046" y="13680"/>
                  </a:lnTo>
                  <a:lnTo>
                    <a:pt x="9027" y="13388"/>
                  </a:lnTo>
                  <a:lnTo>
                    <a:pt x="8709" y="12420"/>
                  </a:lnTo>
                  <a:lnTo>
                    <a:pt x="8768" y="12028"/>
                  </a:lnTo>
                  <a:lnTo>
                    <a:pt x="8699" y="11468"/>
                  </a:lnTo>
                  <a:lnTo>
                    <a:pt x="8497" y="11251"/>
                  </a:lnTo>
                  <a:lnTo>
                    <a:pt x="8481" y="10952"/>
                  </a:lnTo>
                  <a:lnTo>
                    <a:pt x="8745" y="10637"/>
                  </a:lnTo>
                  <a:lnTo>
                    <a:pt x="8952" y="10490"/>
                  </a:lnTo>
                  <a:lnTo>
                    <a:pt x="8936" y="10229"/>
                  </a:lnTo>
                  <a:lnTo>
                    <a:pt x="8753" y="9901"/>
                  </a:lnTo>
                  <a:lnTo>
                    <a:pt x="8720" y="9583"/>
                  </a:lnTo>
                  <a:lnTo>
                    <a:pt x="8547" y="9190"/>
                  </a:lnTo>
                  <a:lnTo>
                    <a:pt x="8271" y="8964"/>
                  </a:lnTo>
                  <a:lnTo>
                    <a:pt x="7722" y="8855"/>
                  </a:lnTo>
                  <a:lnTo>
                    <a:pt x="7241" y="8590"/>
                  </a:lnTo>
                  <a:lnTo>
                    <a:pt x="7019" y="8363"/>
                  </a:lnTo>
                  <a:lnTo>
                    <a:pt x="6727" y="7904"/>
                  </a:lnTo>
                  <a:lnTo>
                    <a:pt x="6569" y="7791"/>
                  </a:lnTo>
                  <a:lnTo>
                    <a:pt x="6708" y="7436"/>
                  </a:lnTo>
                  <a:lnTo>
                    <a:pt x="6509" y="6903"/>
                  </a:lnTo>
                  <a:lnTo>
                    <a:pt x="6043" y="6504"/>
                  </a:lnTo>
                  <a:lnTo>
                    <a:pt x="5045" y="6504"/>
                  </a:lnTo>
                  <a:lnTo>
                    <a:pt x="4181" y="6371"/>
                  </a:lnTo>
                  <a:lnTo>
                    <a:pt x="3319" y="6014"/>
                  </a:lnTo>
                  <a:lnTo>
                    <a:pt x="3130" y="5555"/>
                  </a:lnTo>
                  <a:lnTo>
                    <a:pt x="3092" y="5518"/>
                  </a:lnTo>
                  <a:lnTo>
                    <a:pt x="3094" y="5359"/>
                  </a:lnTo>
                  <a:lnTo>
                    <a:pt x="2986" y="5023"/>
                  </a:lnTo>
                  <a:lnTo>
                    <a:pt x="3045" y="4697"/>
                  </a:lnTo>
                  <a:lnTo>
                    <a:pt x="3076" y="4454"/>
                  </a:lnTo>
                  <a:lnTo>
                    <a:pt x="3022" y="4305"/>
                  </a:lnTo>
                  <a:lnTo>
                    <a:pt x="3012" y="4341"/>
                  </a:lnTo>
                  <a:lnTo>
                    <a:pt x="2685" y="4479"/>
                  </a:lnTo>
                  <a:lnTo>
                    <a:pt x="2190" y="4567"/>
                  </a:lnTo>
                  <a:lnTo>
                    <a:pt x="1764" y="4413"/>
                  </a:lnTo>
                  <a:lnTo>
                    <a:pt x="1849" y="4163"/>
                  </a:lnTo>
                  <a:lnTo>
                    <a:pt x="1892" y="3715"/>
                  </a:lnTo>
                  <a:lnTo>
                    <a:pt x="1640" y="3787"/>
                  </a:lnTo>
                  <a:lnTo>
                    <a:pt x="1172" y="4026"/>
                  </a:lnTo>
                  <a:lnTo>
                    <a:pt x="696" y="4011"/>
                  </a:lnTo>
                  <a:lnTo>
                    <a:pt x="505" y="3645"/>
                  </a:lnTo>
                  <a:lnTo>
                    <a:pt x="241" y="3084"/>
                  </a:lnTo>
                  <a:lnTo>
                    <a:pt x="272" y="2757"/>
                  </a:lnTo>
                  <a:lnTo>
                    <a:pt x="377" y="2506"/>
                  </a:lnTo>
                  <a:lnTo>
                    <a:pt x="807" y="2426"/>
                  </a:lnTo>
                  <a:lnTo>
                    <a:pt x="1010" y="2541"/>
                  </a:lnTo>
                  <a:lnTo>
                    <a:pt x="1244" y="2570"/>
                  </a:lnTo>
                  <a:lnTo>
                    <a:pt x="1425" y="2059"/>
                  </a:lnTo>
                  <a:lnTo>
                    <a:pt x="1262" y="1741"/>
                  </a:lnTo>
                  <a:lnTo>
                    <a:pt x="983" y="1682"/>
                  </a:lnTo>
                  <a:lnTo>
                    <a:pt x="622" y="1454"/>
                  </a:lnTo>
                  <a:lnTo>
                    <a:pt x="338" y="995"/>
                  </a:lnTo>
                  <a:lnTo>
                    <a:pt x="71" y="778"/>
                  </a:lnTo>
                  <a:lnTo>
                    <a:pt x="0" y="441"/>
                  </a:lnTo>
                  <a:lnTo>
                    <a:pt x="113" y="265"/>
                  </a:lnTo>
                  <a:lnTo>
                    <a:pt x="284" y="89"/>
                  </a:lnTo>
                  <a:lnTo>
                    <a:pt x="647" y="0"/>
                  </a:lnTo>
                  <a:lnTo>
                    <a:pt x="852" y="39"/>
                  </a:lnTo>
                  <a:lnTo>
                    <a:pt x="972" y="181"/>
                  </a:lnTo>
                  <a:lnTo>
                    <a:pt x="1016" y="302"/>
                  </a:lnTo>
                  <a:lnTo>
                    <a:pt x="1109" y="415"/>
                  </a:lnTo>
                  <a:lnTo>
                    <a:pt x="1373" y="72"/>
                  </a:lnTo>
                  <a:lnTo>
                    <a:pt x="1792" y="30"/>
                  </a:lnTo>
                  <a:lnTo>
                    <a:pt x="2342" y="63"/>
                  </a:lnTo>
                  <a:lnTo>
                    <a:pt x="2927" y="172"/>
                  </a:lnTo>
                  <a:lnTo>
                    <a:pt x="3309" y="213"/>
                  </a:lnTo>
                  <a:lnTo>
                    <a:pt x="3532" y="289"/>
                  </a:lnTo>
                  <a:lnTo>
                    <a:pt x="3805" y="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4040" y="1278000"/>
              <a:ext cx="2332080" cy="4865400"/>
            </a:xfrm>
            <a:custGeom>
              <a:avLst/>
              <a:gdLst/>
              <a:ahLst/>
              <a:rect l="l" t="t" r="r" b="b"/>
              <a:pathLst>
                <a:path w="10280" h="21451">
                  <a:moveTo>
                    <a:pt x="3653" y="42"/>
                  </a:moveTo>
                  <a:lnTo>
                    <a:pt x="3305" y="421"/>
                  </a:lnTo>
                  <a:lnTo>
                    <a:pt x="2738" y="313"/>
                  </a:lnTo>
                  <a:lnTo>
                    <a:pt x="2114" y="297"/>
                  </a:lnTo>
                  <a:lnTo>
                    <a:pt x="1687" y="117"/>
                  </a:lnTo>
                  <a:lnTo>
                    <a:pt x="1352" y="85"/>
                  </a:lnTo>
                  <a:lnTo>
                    <a:pt x="1173" y="241"/>
                  </a:lnTo>
                  <a:lnTo>
                    <a:pt x="1004" y="445"/>
                  </a:lnTo>
                  <a:lnTo>
                    <a:pt x="771" y="471"/>
                  </a:lnTo>
                  <a:lnTo>
                    <a:pt x="620" y="591"/>
                  </a:lnTo>
                  <a:lnTo>
                    <a:pt x="435" y="477"/>
                  </a:lnTo>
                  <a:lnTo>
                    <a:pt x="328" y="0"/>
                  </a:lnTo>
                  <a:lnTo>
                    <a:pt x="160" y="17"/>
                  </a:lnTo>
                  <a:lnTo>
                    <a:pt x="0" y="230"/>
                  </a:lnTo>
                  <a:lnTo>
                    <a:pt x="7" y="398"/>
                  </a:lnTo>
                  <a:lnTo>
                    <a:pt x="192" y="549"/>
                  </a:lnTo>
                  <a:lnTo>
                    <a:pt x="439" y="990"/>
                  </a:lnTo>
                  <a:lnTo>
                    <a:pt x="641" y="1141"/>
                  </a:lnTo>
                  <a:lnTo>
                    <a:pt x="902" y="1237"/>
                  </a:lnTo>
                  <a:lnTo>
                    <a:pt x="1170" y="1445"/>
                  </a:lnTo>
                  <a:lnTo>
                    <a:pt x="1326" y="1605"/>
                  </a:lnTo>
                  <a:lnTo>
                    <a:pt x="1370" y="1867"/>
                  </a:lnTo>
                  <a:lnTo>
                    <a:pt x="1330" y="2175"/>
                  </a:lnTo>
                  <a:lnTo>
                    <a:pt x="1223" y="2537"/>
                  </a:lnTo>
                  <a:lnTo>
                    <a:pt x="932" y="2711"/>
                  </a:lnTo>
                  <a:lnTo>
                    <a:pt x="672" y="2662"/>
                  </a:lnTo>
                  <a:lnTo>
                    <a:pt x="356" y="2622"/>
                  </a:lnTo>
                  <a:lnTo>
                    <a:pt x="204" y="2843"/>
                  </a:lnTo>
                  <a:lnTo>
                    <a:pt x="256" y="3170"/>
                  </a:lnTo>
                  <a:lnTo>
                    <a:pt x="478" y="3388"/>
                  </a:lnTo>
                  <a:lnTo>
                    <a:pt x="635" y="3473"/>
                  </a:lnTo>
                  <a:lnTo>
                    <a:pt x="1016" y="3477"/>
                  </a:lnTo>
                  <a:lnTo>
                    <a:pt x="1467" y="3183"/>
                  </a:lnTo>
                  <a:lnTo>
                    <a:pt x="1958" y="3403"/>
                  </a:lnTo>
                  <a:lnTo>
                    <a:pt x="2038" y="3776"/>
                  </a:lnTo>
                  <a:lnTo>
                    <a:pt x="1783" y="4118"/>
                  </a:lnTo>
                  <a:lnTo>
                    <a:pt x="1996" y="4233"/>
                  </a:lnTo>
                  <a:lnTo>
                    <a:pt x="2407" y="4069"/>
                  </a:lnTo>
                  <a:lnTo>
                    <a:pt x="2809" y="3961"/>
                  </a:lnTo>
                  <a:lnTo>
                    <a:pt x="2943" y="4401"/>
                  </a:lnTo>
                  <a:lnTo>
                    <a:pt x="2931" y="4727"/>
                  </a:lnTo>
                  <a:lnTo>
                    <a:pt x="2927" y="5025"/>
                  </a:lnTo>
                  <a:lnTo>
                    <a:pt x="3275" y="5654"/>
                  </a:lnTo>
                  <a:lnTo>
                    <a:pt x="3702" y="5769"/>
                  </a:lnTo>
                  <a:lnTo>
                    <a:pt x="4483" y="5917"/>
                  </a:lnTo>
                  <a:lnTo>
                    <a:pt x="5599" y="6124"/>
                  </a:lnTo>
                  <a:lnTo>
                    <a:pt x="5905" y="6174"/>
                  </a:lnTo>
                  <a:lnTo>
                    <a:pt x="6302" y="6495"/>
                  </a:lnTo>
                  <a:lnTo>
                    <a:pt x="6513" y="6786"/>
                  </a:lnTo>
                  <a:lnTo>
                    <a:pt x="6665" y="7309"/>
                  </a:lnTo>
                  <a:lnTo>
                    <a:pt x="6662" y="7683"/>
                  </a:lnTo>
                  <a:lnTo>
                    <a:pt x="6881" y="8058"/>
                  </a:lnTo>
                  <a:lnTo>
                    <a:pt x="7360" y="8482"/>
                  </a:lnTo>
                  <a:lnTo>
                    <a:pt x="7686" y="8513"/>
                  </a:lnTo>
                  <a:lnTo>
                    <a:pt x="8104" y="8639"/>
                  </a:lnTo>
                  <a:lnTo>
                    <a:pt x="8473" y="8913"/>
                  </a:lnTo>
                  <a:lnTo>
                    <a:pt x="8600" y="9240"/>
                  </a:lnTo>
                  <a:lnTo>
                    <a:pt x="8782" y="9615"/>
                  </a:lnTo>
                  <a:lnTo>
                    <a:pt x="8844" y="9962"/>
                  </a:lnTo>
                  <a:lnTo>
                    <a:pt x="8868" y="10316"/>
                  </a:lnTo>
                  <a:lnTo>
                    <a:pt x="8614" y="10547"/>
                  </a:lnTo>
                  <a:lnTo>
                    <a:pt x="8528" y="10770"/>
                  </a:lnTo>
                  <a:lnTo>
                    <a:pt x="8720" y="11089"/>
                  </a:lnTo>
                  <a:lnTo>
                    <a:pt x="8650" y="11433"/>
                  </a:lnTo>
                  <a:lnTo>
                    <a:pt x="8663" y="12059"/>
                  </a:lnTo>
                  <a:lnTo>
                    <a:pt x="8875" y="13096"/>
                  </a:lnTo>
                  <a:lnTo>
                    <a:pt x="8981" y="13581"/>
                  </a:lnTo>
                  <a:lnTo>
                    <a:pt x="8789" y="14158"/>
                  </a:lnTo>
                  <a:lnTo>
                    <a:pt x="8661" y="14773"/>
                  </a:lnTo>
                  <a:lnTo>
                    <a:pt x="8663" y="15370"/>
                  </a:lnTo>
                  <a:lnTo>
                    <a:pt x="8704" y="15854"/>
                  </a:lnTo>
                  <a:lnTo>
                    <a:pt x="8552" y="16152"/>
                  </a:lnTo>
                  <a:lnTo>
                    <a:pt x="8705" y="16648"/>
                  </a:lnTo>
                  <a:lnTo>
                    <a:pt x="8801" y="17246"/>
                  </a:lnTo>
                  <a:lnTo>
                    <a:pt x="8751" y="17543"/>
                  </a:lnTo>
                  <a:lnTo>
                    <a:pt x="8979" y="18031"/>
                  </a:lnTo>
                  <a:lnTo>
                    <a:pt x="9216" y="18509"/>
                  </a:lnTo>
                  <a:lnTo>
                    <a:pt x="9518" y="19016"/>
                  </a:lnTo>
                  <a:lnTo>
                    <a:pt x="9633" y="19520"/>
                  </a:lnTo>
                  <a:lnTo>
                    <a:pt x="9685" y="19912"/>
                  </a:lnTo>
                  <a:lnTo>
                    <a:pt x="9585" y="20433"/>
                  </a:lnTo>
                  <a:lnTo>
                    <a:pt x="9584" y="20621"/>
                  </a:lnTo>
                  <a:lnTo>
                    <a:pt x="9804" y="20931"/>
                  </a:lnTo>
                  <a:lnTo>
                    <a:pt x="9967" y="21324"/>
                  </a:lnTo>
                  <a:lnTo>
                    <a:pt x="10227" y="21447"/>
                  </a:lnTo>
                  <a:lnTo>
                    <a:pt x="10280" y="2145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9280" y="2927160"/>
              <a:ext cx="3402000" cy="2921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726320" y="1544760"/>
              <a:ext cx="846360" cy="277560"/>
              <a:chOff x="7726320" y="1544760"/>
              <a:chExt cx="846360" cy="277560"/>
            </a:xfrm>
          </p:grpSpPr>
          <p:sp>
            <p:nvSpPr>
              <p:cNvPr id="293" name=""/>
              <p:cNvSpPr/>
              <p:nvPr/>
            </p:nvSpPr>
            <p:spPr>
              <a:xfrm>
                <a:off x="7737480" y="1822320"/>
                <a:ext cx="835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726320" y="1544760"/>
                <a:ext cx="83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0 k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6426360" y="469728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64240" y="461160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61040" y="39718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56480" y="478944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08880" y="4865760"/>
              <a:ext cx="162000" cy="16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64440" y="3797280"/>
              <a:ext cx="16164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43560" y="46972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23720" y="1635120"/>
              <a:ext cx="141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Nuevo Mun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73880" y="295596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agoreni 1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342200">
              <a:off x="2624040" y="2302920"/>
              <a:ext cx="111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Urubam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79760" y="43783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Las Malvi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90600">
              <a:off x="6465960" y="4309560"/>
              <a:ext cx="98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mis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1574200">
              <a:off x="6141960" y="5273280"/>
              <a:ext cx="108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shiria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73720" y="35542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61840" y="385920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0572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04200" y="48751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960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92480" y="38466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85680" y="2932200"/>
              <a:ext cx="188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MISEA - LOTE 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22480" y="1801800"/>
              <a:ext cx="34308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76840" y="3325680"/>
              <a:ext cx="330120" cy="292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40200" y="4417920"/>
              <a:ext cx="33012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50920" y="25704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ote 88 y Lote 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6640" y="3274920"/>
            <a:ext cx="171360" cy="171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61360" y="327960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575600">
            <a:off x="1685160" y="245916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OTE 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055EA-D45B-4EC5-BFA9-DA24CD149E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arrollo del Lote 5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64720" cy="504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 pozos productores; 2 plataformas de perforación (6 pozos inicia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x 360 MMPCD Planta Criogé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04 km de gaseoducto nue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aluándose el incremento en capacidad del ducto de líqu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5,000 BPD de Expansión en Planta de Fraccionamiento en Pi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78BC-825D-4ABD-AF16-F38C19D171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09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te 56 - Gener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mpos Pagoreni y Mipay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IA aprobado en Julio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  finalizó la adquisición de Sísmica 3D. Se encuentra en etapa de interpre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trucción de la plataforma de perforación en Pagoreni: próxima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D1515-9FFF-4BD7-90A4-E17085BA39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17:45:32Z</dcterms:created>
  <dc:creator>Manuel Villanueva</dc:creator>
  <dc:description/>
  <dc:language>en-US</dc:language>
  <cp:lastModifiedBy>bbruce</cp:lastModifiedBy>
  <dcterms:modified xsi:type="dcterms:W3CDTF">2005-10-24T22:12:12Z</dcterms:modified>
  <cp:revision>427</cp:revision>
  <dc:subject/>
  <dc:title>PowerPoint Presentation</dc:title>
</cp:coreProperties>
</file>